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9CAB6A-8214-4100-B9A5-36360A1B9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348947-3715-49F8-B501-C15D140621B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A347-9DD1-49F3-A0EE-39271652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DE5D-57DF-4076-BD09-853AA63C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700B-AF6B-454C-8E98-F8EB40900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6299-136F-4471-8268-B32E27700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98ED-6919-4B5B-BAFF-002B8A3C3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EB5E-FE03-45A1-8D34-AA808283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2178-D053-4F4E-880C-425FAFB1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BF12-8634-46D1-A324-B287C6C9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EA63-A1BB-4C22-B89C-69617C16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B344-0504-4F78-9EF7-97B58FA4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F2CD-1E88-4837-BECD-BD89427F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67CC-FC05-4964-9250-5982FD63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3DFC-8C53-4E75-A840-9F3484F4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3872-4030-4496-8E69-AE81E41E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B65D-E03C-4E40-84A0-D3E2BE84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7AF5-A63D-4EA9-9712-3DE57342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DED8-2D74-4596-AE2B-63FCD1D44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F2FF5-CD94-4BCF-8427-316E6E8C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15259-A36D-4FBF-922C-7B9836A6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23864-1512-4B59-9178-CE53F6B0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85240-FA2B-4E0E-A42E-BB5C215C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D1DC5-1B4A-4EBE-B6E8-B4693EC1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F836-B891-47AD-B86B-8E84978B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EBC34-5AF0-423D-84D4-08E1D103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D6A0D-70CA-4A5B-A154-311BD924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D418F-F47F-4A52-8F5D-0987FD12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B17CF-9132-473C-9A46-839C9E85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BBF21-958A-468D-92C3-16128C58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D66A7-8383-484D-A84F-A0AD6C7F9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BE263-211B-4FCA-81D9-323BBE5D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F1AB8-E571-4645-A02A-68CE8C584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D7297-94C1-434A-A346-E8434759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974BA-4ED2-40E0-806B-5C986C83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F913-7B1E-4A0F-8C17-2B1D18DB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83C22-6B77-406A-B4C3-038524BF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85E57-C449-4C33-B619-6BE43BE6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14108-B063-446B-9CF4-E02D3B1D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90004-1AC8-4AC5-99EB-B4E5604B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CDC79-C59F-4ABC-AF12-193F6EC4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64C89-7AB7-4708-8F7A-5DF6FAFF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DB3FA-9DF8-464C-BF68-01D66F4C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3807B-A55D-4E87-A338-67D01978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943A6-797A-41ED-8353-6996C4346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1E95B-D02F-4CBF-970F-17D91EC3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EC6A-315E-4C17-B76A-725A7975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ECC15-3396-4309-A481-531EA17A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7FC17-2450-434B-B719-DDED7976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555AC-3F9C-4940-8490-581CE14E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777F5-3129-43F3-9D8C-1A82F9D0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726E6-BB5F-411E-8F0E-53DEC152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1DE2B-80EF-4D50-880A-07B247F0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BA478-0DC8-4E8A-B44D-706F849C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C9012-42E5-4AB2-8AE3-66ECCD82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7F227-0458-4392-8878-1E724535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FB3DA-D443-411E-B76C-1DAA13479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F4A1-2843-4BFF-B96C-74E9D368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D9347-456C-42DA-8D39-C4054FB0E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1390-0F51-47FC-A388-1EF89EE1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CEF6-CEAD-4869-B79D-52C862C2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41F3-2068-4544-9E1E-5012F009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BEF3ED-A2EB-4EC9-83CC-FDBF9B7E986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112E00-8750-496D-88BB-89E24A2469E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F19040-EC50-42B2-8477-C71981D8D11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003DF6-C46E-41D1-B60D-59916B20D35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805B4A-3FDC-4B88-B67E-9832F67887E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640" y="260640"/>
            <a:ext cx="885672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Применение технологии критического мышления на уроках математики </a:t>
            </a:r>
            <a:br>
              <a:rPr sz="5400"/>
            </a:b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 5-ом  классе (стадия «вызов»)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71640" y="4786200"/>
            <a:ext cx="792036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лодовникова  Екатерина Александровна, учитель математ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КОУ СОШ №5 г. Алзам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434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 класс тема «Окружность»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Игра “Верю-не верю”</a:t>
            </a:r>
            <a:br>
              <a:rPr sz="2800"/>
            </a:b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Цель игры: 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ызвать интерес к изучению темы “окружность”, создать положительную мотивацию самостоятельного изучения текста по теме.</a:t>
            </a:r>
            <a:br>
              <a:rPr sz="1800"/>
            </a:b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8" name="Таблица 2"/>
          <p:cNvGraphicFramePr/>
          <p:nvPr/>
        </p:nvGraphicFramePr>
        <p:xfrm>
          <a:off x="107640" y="933840"/>
          <a:ext cx="9036000" cy="5765400"/>
        </p:xfrm>
        <a:graphic>
          <a:graphicData uri="http://schemas.openxmlformats.org/drawingml/2006/table">
            <a:tbl>
              <a:tblPr/>
              <a:tblGrid>
                <a:gridCol w="8099280"/>
                <a:gridCol w="936720"/>
              </a:tblGrid>
              <a:tr h="791280">
                <a:tc>
                  <a:txBody>
                    <a:bodyPr lIns="43200" rIns="4320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0" rIns="4320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” верю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” не вер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8200">
                <a:tc>
                  <a:txBody>
                    <a:bodyPr lIns="43200" rIns="4320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ерите ли вы, что самая простая из кривых линий – окружнос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0" rIns="4320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3280">
                <a:tc>
                  <a:txBody>
                    <a:bodyPr lIns="43200" rIns="4320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Верите ли вы, что древние индийцы считали самым важным элементом окружности радиус, хотя не знали такого слов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0" rIns="4320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8200">
                <a:tc>
                  <a:txBody>
                    <a:bodyPr lIns="43200" rIns="4320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Верите ли вы, что впервые термин “радиус” встречается лишь в 16 веке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0" rIns="4320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8200">
                <a:tc>
                  <a:txBody>
                    <a:bodyPr lIns="43200" rIns="4320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Верите ли вы, что в переводе с латинского радиус означает “луч”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0" rIns="4320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3280">
                <a:tc>
                  <a:txBody>
                    <a:bodyPr lIns="43200" rIns="4320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Верите ли вы, что при заданном периметре именно окружность ограничивает наибольшую площад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0" rIns="4320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3280">
                <a:tc>
                  <a:txBody>
                    <a:bodyPr lIns="43200" rIns="4320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Верите ли вы, что в русском языке слово “круглый” означает высшую степень чего-либо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0" rIns="4320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8200">
                <a:tc>
                  <a:txBody>
                    <a:bodyPr lIns="43200" rIns="4320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Верите ли вы, что выражение “ходить по кругу” когда-то означало “прогресс”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0" rIns="4320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8200">
                <a:tc>
                  <a:txBody>
                    <a:bodyPr lIns="43200" rIns="4320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Верите ли вы, что хорда в переводе с греческого означает “струна”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0" rIns="4320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3280">
                <a:tc>
                  <a:txBody>
                    <a:bodyPr lIns="43200" rIns="4320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Верите ли вы, что определение “касательной” уже есть в первом учебнике геометрии - “Начала” Евклид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0" rIns="4320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1"/>
          <p:cNvSpPr/>
          <p:nvPr/>
        </p:nvSpPr>
        <p:spPr>
          <a:xfrm>
            <a:off x="0" y="-99360"/>
            <a:ext cx="9143640" cy="65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i="1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i="1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и 30 лет, ни 30 столетий не оказывают никакого влияния на ясность или на красоту геометрических истин”. Кэрролл 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амая простая из кривых линий – окружность. Это одна из древнейших геометрических фигур. Ещё вавилоняне и древние индийцы считали самым важным элементом окружности – радиус. Слово это латинское и означает “луч”. В древности не было этого термина: Евклид и другие учёные говорили просто “прямая из центра”, Ф. Виет писал что “радиус” - это “элегантное слово”. Общепринятым термин “радиус” становится лишь в конце XVII в. Впервые термин “радиус” встречается в “Геометрии” французского ученого Рамса, изданной в 1569 г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 Древней Греции круг и окружность считались венцом совершенства. Действительно в каждой своей точке окружность “устроена” одинаково, что позволяет ей как бы двигаться “по себе”. На плоскости этим свойством обладает еще лишь прямая. Одно из интереснейших свойств круга состоит в том, что он при заданном периметре ограничивает максимальную площад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 русском языке слово “круглый” тоже стало означать высокую степень чего-либо: “круглый отличник”, “круглый сирота” и даже “круглый дурак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Если вы когда-либо пробовали получить информацию от бюрократической организации, вас, скорее всего “погоняли по кругу”. Фраза “ходить по кругу” обычно не ассоциируется с прогрессом. Но в период индустриальной революции, выражение “ходить по кругу” очень точно отражало прогресс. Шкивы и механизмы давали машинам возможность увеличить производительность и значит сократить рабочую недел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Без понятия круга и окружности было бы трудно говорить о круговращении жизни. Круги повсюду вокруг нас. Окружности и циклы идут, взявшись за руки. Циклы получаются при движении по кругу. Мы изучаем циклы земли, они помогают нам разобраться, когда надо сажать растения и когда мы должны вста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редставление об окружности даёт линия движения модели самолёта, прикреплённого шнуром к руке человека, также обод колеса, спицы которого соответствуют радиусам окруж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Термин “хорда” (от греческого “струна”) был введён в современном смысле европейскими учёными в XII-XIII ве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пределение касательной как прямой, имеющей с окружностью только одну общую точку, встречается впервые в учебнике “Элементы геометрии” французского математика Лежандра (1752-1833 гг.). В “Началах” Евклида даётся следующее определение: прямая касается круга, если она встречает круг, но при продолжении не пересекает е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Таблица 1"/>
          <p:cNvGraphicFramePr/>
          <p:nvPr/>
        </p:nvGraphicFramePr>
        <p:xfrm>
          <a:off x="395640" y="2709000"/>
          <a:ext cx="8362800" cy="1171440"/>
        </p:xfrm>
        <a:graphic>
          <a:graphicData uri="http://schemas.openxmlformats.org/drawingml/2006/table">
            <a:tbl>
              <a:tblPr/>
              <a:tblGrid>
                <a:gridCol w="1384920"/>
                <a:gridCol w="1395360"/>
                <a:gridCol w="1395360"/>
                <a:gridCol w="1296000"/>
                <a:gridCol w="1584000"/>
                <a:gridCol w="1306440"/>
              </a:tblGrid>
              <a:tr h="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де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да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ему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ем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Rectangle 1"/>
          <p:cNvSpPr/>
          <p:nvPr/>
        </p:nvSpPr>
        <p:spPr>
          <a:xfrm>
            <a:off x="395640" y="636120"/>
            <a:ext cx="820872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Задание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Прочитав текст, составьте в тетради таблицу вопросов по нему, так чтобы вопрос начинался с указанного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just">
              <a:lnSpc>
                <a:spcPct val="100000"/>
              </a:lnSpc>
              <a:buNone/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класс  тема «Уравнение»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Прямоугольник 2"/>
          <p:cNvSpPr/>
          <p:nvPr/>
        </p:nvSpPr>
        <p:spPr>
          <a:xfrm>
            <a:off x="395640" y="1124640"/>
            <a:ext cx="799236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гадайте анаграмму и определите, какое слово лишнее. Что связывает оставшиеся слова между соб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ч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гук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ару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вененая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"/>
          <p:cNvSpPr/>
          <p:nvPr/>
        </p:nvSpPr>
        <p:spPr>
          <a:xfrm>
            <a:off x="251640" y="404640"/>
            <a:ext cx="7560360" cy="57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15000"/>
              </a:lnSpc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гад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н есть у дерева, цветк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н есть у уравн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знак особый – радикал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ним связан, без сомн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ний многих он ито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И с этим мы не спор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деемся что каждый см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ветить: это…. (корень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712720" cy="9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15000"/>
              </a:lnSpc>
              <a:buNone/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5класс тема «Числовые и буквенные выражения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2"/>
          <p:cNvSpPr/>
          <p:nvPr/>
        </p:nvSpPr>
        <p:spPr>
          <a:xfrm>
            <a:off x="467640" y="1917000"/>
            <a:ext cx="7488360" cy="32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) 25+12+15                6) (67-27)+ (84+3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) 124+(30+18)           7) (49 +95)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3)  а + (5 +8)                8) х + 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4)  47 -36 + х               9)   15 + 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5) (у-45) - (13+у)         10) 99 -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640" y="476640"/>
            <a:ext cx="829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50000"/>
              </a:lnSpc>
              <a:buNone/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5 класс, тема «Угол. Измерение углов»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Рисунок 2" descr="тьоргшнш"/>
          <p:cNvPicPr/>
          <p:nvPr/>
        </p:nvPicPr>
        <p:blipFill>
          <a:blip r:embed="rId1"/>
          <a:stretch/>
        </p:blipFill>
        <p:spPr>
          <a:xfrm>
            <a:off x="251640" y="1700640"/>
            <a:ext cx="8280720" cy="3240000"/>
          </a:xfrm>
          <a:prstGeom prst="rect">
            <a:avLst/>
          </a:prstGeom>
          <a:ln w="9525">
            <a:noFill/>
          </a:ln>
        </p:spPr>
      </p:pic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179640" y="116640"/>
            <a:ext cx="878472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тинно или ложно моё высказывание? (игра «СВЕТОФОР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существующие углы прямые (ложно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 ни одного угла, который бы нельзя было измерить в градусах (ложно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межные углы – это углы, у которых есть общая сторона (истинно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Угол в 110º – развернутый (ложно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ученики 5 класса научатся измерять градусную меру угла (истинно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4572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"/>
          <p:cNvSpPr/>
          <p:nvPr/>
        </p:nvSpPr>
        <p:spPr>
          <a:xfrm>
            <a:off x="179640" y="260640"/>
            <a:ext cx="8856720" cy="64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определения целей можно использовать игру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«Верно или ложно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ерное утверждение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хлопаете в ладоши; есл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неверно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однимаете вверх ру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Единицы измерения углов: миллиметры, сантиметр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Единицы измерения углов: градусы, минут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ёрнутый угол имеет градусную меру 100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ёрнутый угол равен 180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ямой угол равен 160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ямой угол равен 9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трый угол больше прямог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трый угол равен прямо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трый угол меньше прямог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упой угол меньше прямог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упой угол всегда больше прямого и меньше развёрнутог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гол, меньше 90° называется остры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гол, больше 90° , но меньший 180° , называется тупым угл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5000"/>
          </a:bodyPr>
          <a:p>
            <a:pPr indent="0" algn="just">
              <a:lnSpc>
                <a:spcPct val="115000"/>
              </a:lnSpc>
              <a:spcAft>
                <a:spcPts val="1001"/>
              </a:spcAft>
              <a:buNone/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5 класс, тема «Равные фигуры»</a:t>
            </a:r>
            <a:br>
              <a:rPr sz="40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Прямоугольник 2"/>
          <p:cNvSpPr/>
          <p:nvPr/>
        </p:nvSpPr>
        <p:spPr>
          <a:xfrm>
            <a:off x="179640" y="1124640"/>
            <a:ext cx="8640720" cy="55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адание 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: Найдите себе пар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адание 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: Найдите периметр вашей фигуры. Учащиеся самостоятельно делают необходимые измерения и находят перимет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адание 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: Проверьте верно вы вычислили или нет? (ответы должны быть одинаковым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лаем выводы- равные фигуры имеют равные периметры; если не равны, то выясняем в чем ошибка (не знаем формулу периметра, не умеем вычисля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11640" y="1071720"/>
            <a:ext cx="8278200" cy="54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Ученик, умеющий критически мыслить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ладеет разнообразными способами интерпретации и оценки информационного сообщения,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ен выделять в тексте противоречия и типы присутствующих в нем структур,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жет аргументировать свою точку зрения,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332640"/>
            <a:ext cx="8686440" cy="9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5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5 класс  тема «Действия с обыкновенными дробями»</a:t>
            </a: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900" spc="-1" strike="noStrike">
                <a:solidFill>
                  <a:srgbClr val="000000"/>
                </a:solidFill>
                <a:latin typeface="Calibri"/>
              </a:rPr>
              <a:t>Дерево предсказаний</a:t>
            </a:r>
            <a:endParaRPr b="0" lang="ru-RU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2" descr="C:\Users\almaz-2017\Pictures\029.jpg"/>
          <p:cNvPicPr/>
          <p:nvPr/>
        </p:nvPicPr>
        <p:blipFill>
          <a:blip r:embed="rId1"/>
          <a:srcRect l="7272" t="11622" r="51531" b="8892"/>
          <a:stretch/>
        </p:blipFill>
        <p:spPr>
          <a:xfrm>
            <a:off x="683640" y="1615320"/>
            <a:ext cx="3763800" cy="4979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C:\Users\almaz-2017\Pictures\029.jpg"/>
          <p:cNvPicPr/>
          <p:nvPr/>
        </p:nvPicPr>
        <p:blipFill>
          <a:blip r:embed="rId2"/>
          <a:srcRect l="51165" t="12000" r="7335" b="8446"/>
          <a:stretch/>
        </p:blipFill>
        <p:spPr>
          <a:xfrm>
            <a:off x="5076000" y="1712520"/>
            <a:ext cx="3578400" cy="5145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06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5 класс, тема «Треугольники»</a:t>
            </a:r>
            <a:br>
              <a:rPr sz="3600"/>
            </a:br>
            <a:r>
              <a:rPr b="1" lang="ru-RU" sz="4900" spc="-1" strike="noStrike">
                <a:solidFill>
                  <a:srgbClr val="000000"/>
                </a:solidFill>
                <a:latin typeface="Calibri"/>
              </a:rPr>
              <a:t>Кластер</a:t>
            </a:r>
            <a:endParaRPr b="0" lang="ru-RU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2" descr="C:\Users\almaz-2017\Pictures\img3 (1).jpg"/>
          <p:cNvPicPr/>
          <p:nvPr/>
        </p:nvPicPr>
        <p:blipFill>
          <a:blip r:embed="rId1"/>
          <a:stretch/>
        </p:blipFill>
        <p:spPr>
          <a:xfrm>
            <a:off x="20160" y="1340640"/>
            <a:ext cx="5435640" cy="4220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2"/>
          <a:stretch/>
        </p:blipFill>
        <p:spPr>
          <a:xfrm>
            <a:off x="4334400" y="3933000"/>
            <a:ext cx="4809240" cy="2924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60640"/>
            <a:ext cx="8229240" cy="85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5 класс, тема «Площадь и периметр прямоугольника»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УБИК БЛУМ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63720" y="3069000"/>
            <a:ext cx="8967600" cy="1864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2"/>
          <a:stretch/>
        </p:blipFill>
        <p:spPr>
          <a:xfrm>
            <a:off x="2338200" y="1187640"/>
            <a:ext cx="2195280" cy="5627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00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 класс, тема «Сравнение десятичных дробей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оугольник 2"/>
          <p:cNvSpPr/>
          <p:nvPr/>
        </p:nvSpPr>
        <p:spPr>
          <a:xfrm>
            <a:off x="179640" y="1196640"/>
            <a:ext cx="87249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«ЛОВИ ОШИБК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Таблица 4"/>
          <p:cNvGraphicFramePr/>
          <p:nvPr/>
        </p:nvGraphicFramePr>
        <p:xfrm>
          <a:off x="827640" y="2619360"/>
          <a:ext cx="7632360" cy="3689640"/>
        </p:xfrm>
        <a:graphic>
          <a:graphicData uri="http://schemas.openxmlformats.org/drawingml/2006/table">
            <a:tbl>
              <a:tblPr/>
              <a:tblGrid>
                <a:gridCol w="3816000"/>
                <a:gridCol w="3816720"/>
              </a:tblGrid>
              <a:tr h="105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,29    &lt;  3,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4,6 ˃  35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5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123  ˃  0,2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,023  &lt;  12,0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5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,74  &lt;   15,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5,4  ˃  53,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7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,05   &lt; 2,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01 &lt; 0,00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Rectangle 1"/>
          <p:cNvSpPr/>
          <p:nvPr/>
        </p:nvSpPr>
        <p:spPr>
          <a:xfrm>
            <a:off x="1533600" y="2390760"/>
            <a:ext cx="9143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5 класс, тема «Сложение и вычитание десятичных дробей»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рямоугольник 2"/>
          <p:cNvSpPr/>
          <p:nvPr/>
        </p:nvSpPr>
        <p:spPr>
          <a:xfrm>
            <a:off x="179640" y="1637640"/>
            <a:ext cx="856872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тский дог Гибсон был самой высокой в мире собакой. Его рост составлял 107,18 см от пола д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ча, а на задних лапах он достигал 2,19 мет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7 июля 2006 года самой маленькой лошадью была Тамбелина – миниатюрная гнедая кобыла 44,5 см в холке, хозяевами которой являются Кей и Пол Госслинг из Сейнт-Луиса, штат Миссури. Радар – бельгийский конь – тяжеловоз – на 27 июля 2004 года составлял 19,5 ладоней без копыт. Радар живет на ферме в Техас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0"/>
            <a:ext cx="822924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27000"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оугольник 2"/>
          <p:cNvSpPr/>
          <p:nvPr/>
        </p:nvSpPr>
        <p:spPr>
          <a:xfrm>
            <a:off x="323640" y="476640"/>
            <a:ext cx="8424720" cy="56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15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1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очитайте  текст из «Книги рекордов Гиннес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2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ишите только десятичные дроб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круглите дроби до десятых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4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глите дроби до единиц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5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апишите числа в порядке возрас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6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сумму наибольшего и наименьшего чис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880" y="188640"/>
            <a:ext cx="59763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7000"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5 класс, тема «Сложение и вычитание десятичных дробей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Прямоугольник 4"/>
          <p:cNvSpPr/>
          <p:nvPr/>
        </p:nvSpPr>
        <p:spPr>
          <a:xfrm>
            <a:off x="0" y="1989000"/>
            <a:ext cx="457164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амые большие в мире овощи и фрук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нанас - 8,06 кг,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яблоко - 1,67 кг,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бачок - 61,23 кг,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ртофель - 11,2 кг,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уковица - 7,03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C:\Users\almaz-2017\Pictures\600714f989fae_0.jpg"/>
          <p:cNvPicPr/>
          <p:nvPr/>
        </p:nvPicPr>
        <p:blipFill>
          <a:blip r:embed="rId1"/>
          <a:srcRect l="12484" t="0" r="12279" b="47908"/>
          <a:stretch/>
        </p:blipFill>
        <p:spPr>
          <a:xfrm>
            <a:off x="3632040" y="4183560"/>
            <a:ext cx="5531760" cy="26589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C:\Users\almaz-2017\Pictures\k-chemu-snyatsya-bol-shie-yabloki-tolkovanie-po-sonnikam-2.jpg"/>
          <p:cNvPicPr/>
          <p:nvPr/>
        </p:nvPicPr>
        <p:blipFill>
          <a:blip r:embed="rId2"/>
          <a:srcRect l="3803" t="12531" r="25169" b="0"/>
          <a:stretch/>
        </p:blipFill>
        <p:spPr>
          <a:xfrm>
            <a:off x="5938200" y="28080"/>
            <a:ext cx="3205440" cy="3240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C:\Users\almaz-2017\Pictures\OX03-4854.jpg"/>
          <p:cNvPicPr/>
          <p:nvPr/>
        </p:nvPicPr>
        <p:blipFill>
          <a:blip r:embed="rId3"/>
          <a:srcRect l="24706" t="2855" r="9186" b="14281"/>
          <a:stretch/>
        </p:blipFill>
        <p:spPr>
          <a:xfrm>
            <a:off x="4068000" y="1268640"/>
            <a:ext cx="2935080" cy="3224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180360" y="620640"/>
            <a:ext cx="9143640" cy="5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35000"/>
          </a:bodyPr>
          <a:p>
            <a:pPr indent="0" algn="just">
              <a:lnSpc>
                <a:spcPct val="115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лагаю из этого набора приготовить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1"/>
          <p:cNvSpPr/>
          <p:nvPr/>
        </p:nvSpPr>
        <p:spPr>
          <a:xfrm>
            <a:off x="1477800" y="3293640"/>
            <a:ext cx="6397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Таблица 5"/>
          <p:cNvGraphicFramePr/>
          <p:nvPr/>
        </p:nvGraphicFramePr>
        <p:xfrm>
          <a:off x="179640" y="2061000"/>
          <a:ext cx="8568720" cy="4525560"/>
        </p:xfrm>
        <a:graphic>
          <a:graphicData uri="http://schemas.openxmlformats.org/drawingml/2006/table">
            <a:tbl>
              <a:tblPr/>
              <a:tblGrid>
                <a:gridCol w="4083840"/>
                <a:gridCol w="501120"/>
                <a:gridCol w="3983400"/>
              </a:tblGrid>
              <a:tr h="10659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юре «яблочно-кабачковое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фруктовый сал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59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юре «кабачково-ананасовое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вощное раг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29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сса какого пюре больше и на сколько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чего больше и на сколько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1"/>
          <p:cNvSpPr/>
          <p:nvPr/>
        </p:nvSpPr>
        <p:spPr>
          <a:xfrm>
            <a:off x="251640" y="404640"/>
            <a:ext cx="8640720" cy="59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им образ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дия вызов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амках уроков  применения технологии критического мышления выполняет сразу несколько функци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мотивационную (пробуждает интерес к теме, побуждает к работе с новой информацией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информационную (заставляет вспомнить то, что уже известно по  теме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 коммуникационную (предполагает бесконфликтный обмен мнениями и предположениями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Рисунок 1" descr=""/>
          <p:cNvPicPr/>
          <p:nvPr/>
        </p:nvPicPr>
        <p:blipFill>
          <a:blip r:embed="rId1"/>
          <a:srcRect l="31462" t="17783" r="11873" b="0"/>
          <a:stretch/>
        </p:blipFill>
        <p:spPr>
          <a:xfrm>
            <a:off x="1403640" y="0"/>
            <a:ext cx="7740000" cy="551700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2"/>
          <p:cNvSpPr/>
          <p:nvPr/>
        </p:nvSpPr>
        <p:spPr>
          <a:xfrm>
            <a:off x="179640" y="5840280"/>
            <a:ext cx="8784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Желаю  всем   творческих   успехов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1640" y="571320"/>
            <a:ext cx="8892000" cy="84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Ученик, умеющий критически мыслить: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7640" y="1447920"/>
            <a:ext cx="849672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увствует уверенность в работе с различными типами информации,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жет эффективно использовать самые разнообразные ресурсы,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меет эффективно взаимодействовать с информационными пространствами, возможность сосуществования разнообразных точек зрения в рамках общечеловеческих ценносте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урока "Вызов" предназначен для того, чтобы вызвать: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Прямоугольник 2"/>
          <p:cNvSpPr/>
          <p:nvPr/>
        </p:nvSpPr>
        <p:spPr>
          <a:xfrm>
            <a:off x="323640" y="2117160"/>
            <a:ext cx="8640720" cy="40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вать в памяти учащихся ту информацию, которая пригодится на данном урок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457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 к новой тем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457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ь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4572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9640" y="188640"/>
            <a:ext cx="864072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indent="0" algn="just">
              <a:lnSpc>
                <a:spcPct val="115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тадия «вызова» на уроке решает несколько задач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Прямоугольник 2"/>
          <p:cNvSpPr/>
          <p:nvPr/>
        </p:nvSpPr>
        <p:spPr>
          <a:xfrm>
            <a:off x="179640" y="1340640"/>
            <a:ext cx="8856720" cy="54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положительную мотивац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457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вать интерес учащихся к новой т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457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улировать главные цели уро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457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тить круг вопросов, которые будут решаться на уро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457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ировать деятельность учащихся, включить их в раб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класс  тема «Сложение и вычитание натуральных чисел. Периметр»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1" name="Таблица 2"/>
          <p:cNvGraphicFramePr/>
          <p:nvPr/>
        </p:nvGraphicFramePr>
        <p:xfrm>
          <a:off x="683640" y="2277000"/>
          <a:ext cx="7560360" cy="3618720"/>
        </p:xfrm>
        <a:graphic>
          <a:graphicData uri="http://schemas.openxmlformats.org/drawingml/2006/table">
            <a:tbl>
              <a:tblPr/>
              <a:tblGrid>
                <a:gridCol w="1889280"/>
                <a:gridCol w="1890360"/>
                <a:gridCol w="1890360"/>
                <a:gridCol w="1890360"/>
              </a:tblGrid>
              <a:tr h="810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32640"/>
            <a:ext cx="82292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6000"/>
          </a:bodyPr>
          <a:p>
            <a:pPr indent="0" algn="just">
              <a:lnSpc>
                <a:spcPct val="115000"/>
              </a:lnSpc>
              <a:buNone/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5 класс, тема «Свойства сложения» </a:t>
            </a:r>
            <a:br>
              <a:rPr sz="40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Прямоугольник 2"/>
          <p:cNvSpPr/>
          <p:nvPr/>
        </p:nvSpPr>
        <p:spPr>
          <a:xfrm>
            <a:off x="467640" y="1196640"/>
            <a:ext cx="8352720" cy="60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стории математики известен такой случай. Однажды, а было это в Германии, в конце 18 века, для того чтобы заставить учеников поработать, учитель дал им задание подсчитать сумму всех натуральных чисел от 1 до 100. Каково же было его удивление, когда уже через несколько минут один ученик сказал ему ответ. Этот ученик, Карл Фридрих Гаусс, а ему было тогда 10 лет, стал одним из великих математиков мира. Как  вы думаете, как маленькому Гауссу удалось быстро подсчитать сум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640" y="1124640"/>
            <a:ext cx="89640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1+2+3+4+…..+97+98+99+100=?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60640"/>
            <a:ext cx="822924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5 класс тема «Формулы» 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ем «ПАЗЛ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Прямоугольник 2"/>
          <p:cNvSpPr/>
          <p:nvPr/>
        </p:nvSpPr>
        <p:spPr>
          <a:xfrm>
            <a:off x="323640" y="1556640"/>
            <a:ext cx="813672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ts val="165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ске записаны формулы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 s = 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p = 4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s = v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p = (a + b)∙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s = a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дружную пар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звание формулы – Формул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Специальное оформление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1004</TotalTime>
  <Application>LibreOffice/7.4.7.2$Linux_X86_64 LibreOffice_project/40$Build-2</Application>
  <AppVersion>15.0000</AppVersion>
  <Words>1695</Words>
  <Paragraphs>236</Paragraphs>
  <Company>2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07:52:28Z</dcterms:created>
  <dc:creator>Елена</dc:creator>
  <dc:description/>
  <dc:language>en-US</dc:language>
  <cp:lastModifiedBy>almaz-2017</cp:lastModifiedBy>
  <dcterms:modified xsi:type="dcterms:W3CDTF">2023-11-01T09:44:22Z</dcterms:modified>
  <cp:revision>8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29</vt:r8>
  </property>
</Properties>
</file>