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4.jpeg" ContentType="image/jpeg"/>
  <Override PartName="/ppt/media/image15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  <p:sldId id="282" r:id="rId39"/>
    <p:sldId id="283" r:id="rId40"/>
    <p:sldId id="284" r:id="rId41"/>
    <p:sldId id="285" r:id="rId42"/>
    <p:sldId id="286" r:id="rId43"/>
    <p:sldId id="287" r:id="rId44"/>
    <p:sldId id="288" r:id="rId45"/>
    <p:sldId id="28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slide" Target="slides/slide27.xml"/><Relationship Id="rId40" Type="http://schemas.openxmlformats.org/officeDocument/2006/relationships/slide" Target="slides/slide28.xml"/><Relationship Id="rId41" Type="http://schemas.openxmlformats.org/officeDocument/2006/relationships/slide" Target="slides/slide29.xml"/><Relationship Id="rId42" Type="http://schemas.openxmlformats.org/officeDocument/2006/relationships/slide" Target="slides/slide30.xml"/><Relationship Id="rId43" Type="http://schemas.openxmlformats.org/officeDocument/2006/relationships/slide" Target="slides/slide31.xml"/><Relationship Id="rId44" Type="http://schemas.openxmlformats.org/officeDocument/2006/relationships/slide" Target="slides/slide32.xml"/><Relationship Id="rId45" Type="http://schemas.openxmlformats.org/officeDocument/2006/relationships/slide" Target="slides/slide33.xml"/><Relationship Id="rId46" Type="http://schemas.openxmlformats.org/officeDocument/2006/relationships/slide" Target="slides/slide34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 type="dt" idx="3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 type="ftr" idx="3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 type="sldNum" idx="3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A1BEDAA-A087-4DB7-B1DF-19D512E436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sldNum" idx="3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BF31ABE-A5A1-421A-9239-0A40F807F5EB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1B3C-5803-4EDA-9CF0-0514CA4CA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51B2-A470-495F-92D7-A0782E66B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C7398A-A443-4119-960E-A44C2D3F5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FCC674-3B56-4393-AB80-25CA5D1C3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861104-E5DA-4248-BC27-5FEA35A75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D3CD7A-55E6-443B-9D9A-28D7B4CAE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4B73CE-3B90-4C5D-B975-BC2DBB5E2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3249FE-591F-4B94-85E4-35EDF544B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C2989B-3597-4591-AA63-A540352BA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32524E-FDAD-4E84-9B09-E9813531E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7EEBF3-6070-499D-854D-6D6AF940C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5A3E91-A84D-44FA-BAB4-219BDC1B9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BB0A-244D-4DFB-8D13-0F1E9608E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1C2D21-22DC-4A70-B68E-31DE5F7AE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6A2116-DD09-4F98-9647-CB3233BDB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823ECF-B36E-416A-86FA-C669C8336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78FD97-5EF7-4A44-8BFE-95E345540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FE7C60-37B4-482E-9416-E99493B41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C26B0F-3CED-4AB2-A9FE-7C2CEF074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E6B6F9-7DED-4B01-97A8-594AC269F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C22B3D-C5FD-4917-A91C-96CCCB0ED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D2A1C9-F045-4515-BE18-5DE3058BF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74BE70-2D47-452F-AAEF-61F25CD09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370D-17C4-4314-A19D-F08E2624C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277E3E-FF13-4E2E-AEEE-768B7DCE2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F5AC8-DA12-4EFA-8CAD-6D1EDE6E6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BB175-B22E-43D7-A608-1B7E57B0B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799E2-B1DE-40DF-9DA5-5777D4A45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C2D07-B8C2-4728-A4A7-D6ACC9609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CDDF4-BA19-45DB-92F6-58EE77FBB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38291-ADD6-4B48-B9D7-AA07AD18E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01C08-F3D5-4162-8671-53D7B22B5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DE16-7DA2-41E6-8E86-44AE1D330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AC6E5-1822-4296-A1F1-50726F279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3D53D-9B8B-480D-8B3B-DDCC93E94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8C584-6C86-4DF9-98AE-1159B3522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1DB6D-783F-40D8-9B41-1AE8CB702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F6BA9-A395-4494-B11A-EED5D4D2D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2DA65C-AF69-4047-B57C-612C5A479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477CB0-AE40-4096-9FF6-A3AD3C215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A43B35-6494-4E4D-8CB6-C1BDFB751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3E4B6F-2CC9-45A1-A7EB-2133F0DCC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488630-A568-4E35-895F-A4AC3AA18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40C4-A4E4-4384-9C0B-D1F87F253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DD724E-2B9C-4836-96A3-DF8DCC9C8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7B949D-E127-42E3-BB1F-2966A120E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FBF089-FBAE-4B9B-88A5-B16F895C3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0BF794-C895-4EF5-9D91-CD8CA98B2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11A8C0-A9B4-4910-9E56-07218F9FC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F640B0-FA29-404C-963F-A849BB568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E444B3-D322-4FF1-8493-709582E92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F0928E-7698-434F-A987-08C8450F8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E6F49F-05A6-4145-B99D-8D9846A93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093B83-6DE0-4BC7-8F5F-06ACC1A4D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3121-32DE-46DB-ACD2-66EEDDD29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5AC4BC-AF61-4D08-B401-759CE2B3E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2FC123-B03F-4EAC-92AC-8A418CEEF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0DA3CB-43BE-47C6-8435-071034297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A7E1D6-AEF0-48A6-8F42-A662F271B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21C8E2-F87F-4151-89DE-D65053381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1E4D1C-43AA-4AB2-AF6E-CA766D074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272BA3-5456-4880-8B19-FFCF0466C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9D223D-F3CB-438A-9CD4-16F8D737A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8D63E0-2F20-4447-A3C2-EEBFA20CF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89F1F9-D3AB-4B54-8F11-1835167B8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B631-48B4-40E2-984E-D45B5569F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5352A6-6925-44FF-A462-D4732EA37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C222A8-4504-4A08-A5A8-C82C69295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4F32B8-FE38-4195-94B7-A255EF732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AFC225-0E40-4501-A01A-7F5D5EA36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B7A200-0D50-4AA0-AA12-BC784D288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1B5B28-CB51-47FA-A100-1E864FD9D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186678-CE5A-4671-A595-D25AC6C7A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651D3A-245E-483C-9809-73CE662D2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47F348-8937-423A-ADFA-7B880F80C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446FD5-28BD-483C-BA78-410E9B928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37E6-3928-4564-9111-223D351FD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431D10-AB31-4598-A627-BA59CD68C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BD32FF-4C51-4D21-833C-3072FA8D4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67A0EC-C7F8-478D-8897-C78AAB893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728B9A-2C4E-4F0C-98CB-B9A85CC02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28689D-3E61-46A1-8A26-53F4765C8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DB2722-592E-4495-9866-F8F571E42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471437-8EA5-4CED-9826-C009376CD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4BC2F3-E11A-422C-91F8-4D89ACF4A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034A79-BFAF-4CA6-8AA1-F8E40284F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54DE00-9743-40F0-8749-C11899ED8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F0E0-EECF-49C5-8995-AB379DB58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244561-F5D4-4108-8368-01220FF00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E6D421-BDA3-4D83-939C-0E8562B07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020F63-F196-472A-ABAB-FA267B2FA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99913A-7B9A-4BD6-8C77-AEE2872D8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6D22B4-37B4-4E4B-826C-0E53F6374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7F9F41-A12F-42A2-94DD-AB528C496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E11F7C-0F0F-42AE-B902-21A74F406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9865DB-26D0-43FE-8229-55FEC9E70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74F9FC-0CBC-4E4A-9F0C-3632669AF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926D72-C80D-4109-BC72-F48D20D8E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06C6-6724-454A-9747-0C3D70A88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3DCB6E-C8FE-41D2-AEBA-E15EFAF88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19DE3C-A940-480F-88AB-F74161BE7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5860D1-5842-4703-9D12-785ECE1B6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043702-1F5C-404B-AFFC-EC162C9BF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2A45FE-A533-4625-B3D1-A7966B984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1A5135-4B2C-43D7-AFFD-D189E839D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F1CA19-D3AE-40A0-ACD8-64B5AC8E9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A26787-C467-4970-A506-BC357003D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39D596-C19C-4DA7-BBAF-03E686666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7988AA-5648-4B5D-8B17-2E683375D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3757-107A-4FBA-BAEE-4CE6F209A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26A491-B2BF-4384-A4F8-BD8EDA28F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EDA674-B509-47C1-92AD-03A546068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339B67-1ED2-4123-AF00-5375189E9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500E87-146D-4280-873E-CC4A517FB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DC5AB6-894A-4094-B8FD-D06641924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E1FEE8-B7F7-407B-A7ED-66E3427F1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B97EEC-B5C7-42DD-844F-D054123DA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C6E6EC-5487-4C40-974E-6B4E86B89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C6B13F-946E-401F-B9B8-03FB2BCA0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3E9F7C-5313-4660-9D85-9682DA8E9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4FEF87D-46FE-4932-827D-5F578C29FD16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cd4ff"/>
            </a:gs>
            <a:gs pos="100000">
              <a:srgbClr val="5bb9ff"/>
            </a:gs>
          </a:gsLst>
          <a:path path="circle">
            <a:fillToRect l="50000" t="25000" r="50000" b="75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6"/>
          <p:cNvSpPr/>
          <p:nvPr/>
        </p:nvSpPr>
        <p:spPr>
          <a:xfrm>
            <a:off x="0" y="5105520"/>
            <a:ext cx="9143640" cy="1752120"/>
          </a:xfrm>
          <a:prstGeom prst="rect">
            <a:avLst/>
          </a:prstGeom>
          <a:gradFill rotWithShape="0">
            <a:gsLst>
              <a:gs pos="0">
                <a:srgbClr val="ffffff">
                  <a:alpha val="91372"/>
                </a:srgbClr>
              </a:gs>
              <a:gs pos="100000">
                <a:srgbClr val="b4dcfa">
                  <a:alpha val="79215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8" name="Rectangle 7"/>
          <p:cNvSpPr/>
          <p:nvPr/>
        </p:nvSpPr>
        <p:spPr>
          <a:xfrm>
            <a:off x="0" y="0"/>
            <a:ext cx="9143640" cy="5105160"/>
          </a:xfrm>
          <a:prstGeom prst="rect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b4dcfa">
                  <a:alpha val="79215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9" name="Rectangle 8"/>
          <p:cNvSpPr/>
          <p:nvPr/>
        </p:nvSpPr>
        <p:spPr>
          <a:xfrm>
            <a:off x="0" y="3768480"/>
            <a:ext cx="9143640" cy="2285640"/>
          </a:xfrm>
          <a:prstGeom prst="rect">
            <a:avLst/>
          </a:prstGeom>
          <a:gradFill rotWithShape="0">
            <a:gsLst>
              <a:gs pos="0">
                <a:srgbClr val="b4dcfa">
                  <a:alpha val="6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0" name="Oval 9"/>
          <p:cNvSpPr/>
          <p:nvPr/>
        </p:nvSpPr>
        <p:spPr>
          <a:xfrm>
            <a:off x="0" y="1600200"/>
            <a:ext cx="9143640" cy="5105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dt" idx="28"/>
          </p:nvPr>
        </p:nvSpPr>
        <p:spPr>
          <a:xfrm>
            <a:off x="6172200" y="6172200"/>
            <a:ext cx="25142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1" lang="ru-RU" sz="1100" spc="-1" strike="noStrike">
                <a:solidFill>
                  <a:srgbClr val="80808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1" lang="ru-RU" sz="1100" spc="-1" strike="noStrike">
                <a:solidFill>
                  <a:srgbClr val="808080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ftr" idx="29"/>
          </p:nvPr>
        </p:nvSpPr>
        <p:spPr>
          <a:xfrm>
            <a:off x="457200" y="617220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 type="sldNum" idx="30"/>
          </p:nvPr>
        </p:nvSpPr>
        <p:spPr>
          <a:xfrm>
            <a:off x="3809880" y="6172200"/>
            <a:ext cx="1828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ru-RU" sz="1200" spc="-1" strike="noStrike">
                <a:solidFill>
                  <a:srgbClr val="80808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07EC0D3C-629B-457C-A224-A3BC8130AB3C}" type="slidenum">
              <a:rPr b="1" lang="ru-RU" sz="1200" spc="-1" strike="noStrike">
                <a:solidFill>
                  <a:srgbClr val="80808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ru-RU" sz="1600" spc="-1" strike="noStrike">
              <a:solidFill>
                <a:srgbClr val="404040"/>
              </a:solidFill>
              <a:latin typeface="Trebuchet MS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ru-RU" sz="1400" spc="-1" strike="noStrike">
              <a:solidFill>
                <a:srgbClr val="404040"/>
              </a:solidFill>
              <a:latin typeface="Trebuchet MS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ru-RU" sz="2000" spc="-1" strike="noStrike">
              <a:solidFill>
                <a:srgbClr val="404040"/>
              </a:solidFill>
              <a:latin typeface="Trebuchet MS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ru-RU" sz="2000" spc="-1" strike="noStrike">
              <a:solidFill>
                <a:srgbClr val="404040"/>
              </a:solidFill>
              <a:latin typeface="Trebuchet MS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ru-RU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492322D-B860-43A0-B780-4ECC73707881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85BA363-7FC3-4E1C-8227-41519C116DA2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10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12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0722655-1AE9-41C6-810C-958D447C8E5E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dt" idx="13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Num" idx="15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63565E0-61D0-497E-9DAE-C35953032EEB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cd4ff"/>
            </a:gs>
            <a:gs pos="100000">
              <a:srgbClr val="5bb9ff"/>
            </a:gs>
          </a:gsLst>
          <a:path path="circle">
            <a:fillToRect l="50000" t="25000" r="50000" b="75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6" hidden="1"/>
          <p:cNvSpPr/>
          <p:nvPr/>
        </p:nvSpPr>
        <p:spPr>
          <a:xfrm>
            <a:off x="0" y="5105520"/>
            <a:ext cx="9143640" cy="1752120"/>
          </a:xfrm>
          <a:prstGeom prst="rect">
            <a:avLst/>
          </a:prstGeom>
          <a:gradFill rotWithShape="0">
            <a:gsLst>
              <a:gs pos="0">
                <a:srgbClr val="ffffff">
                  <a:alpha val="91372"/>
                </a:srgbClr>
              </a:gs>
              <a:gs pos="100000">
                <a:srgbClr val="b4dcfa">
                  <a:alpha val="79215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6" name="Rectangle 7" hidden="1"/>
          <p:cNvSpPr/>
          <p:nvPr/>
        </p:nvSpPr>
        <p:spPr>
          <a:xfrm>
            <a:off x="0" y="0"/>
            <a:ext cx="9143640" cy="5105160"/>
          </a:xfrm>
          <a:prstGeom prst="rect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b4dcfa">
                  <a:alpha val="79215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7" name="Rectangle 8" hidden="1"/>
          <p:cNvSpPr/>
          <p:nvPr/>
        </p:nvSpPr>
        <p:spPr>
          <a:xfrm>
            <a:off x="0" y="3768480"/>
            <a:ext cx="9143640" cy="2285640"/>
          </a:xfrm>
          <a:prstGeom prst="rect">
            <a:avLst/>
          </a:prstGeom>
          <a:gradFill rotWithShape="0">
            <a:gsLst>
              <a:gs pos="0">
                <a:srgbClr val="b4dcfa">
                  <a:alpha val="6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8" name="Oval 9" hidden="1"/>
          <p:cNvSpPr/>
          <p:nvPr/>
        </p:nvSpPr>
        <p:spPr>
          <a:xfrm>
            <a:off x="0" y="1600200"/>
            <a:ext cx="9143640" cy="5105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9" name="Rectangle 10"/>
          <p:cNvSpPr/>
          <p:nvPr/>
        </p:nvSpPr>
        <p:spPr>
          <a:xfrm>
            <a:off x="0" y="3866760"/>
            <a:ext cx="9143640" cy="2990880"/>
          </a:xfrm>
          <a:prstGeom prst="rect">
            <a:avLst/>
          </a:prstGeom>
          <a:gradFill rotWithShape="0">
            <a:gsLst>
              <a:gs pos="0">
                <a:srgbClr val="ffffff">
                  <a:alpha val="91372"/>
                </a:srgbClr>
              </a:gs>
              <a:gs pos="100000">
                <a:srgbClr val="b4dcfa">
                  <a:alpha val="79215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0" name="Rectangle 11"/>
          <p:cNvSpPr/>
          <p:nvPr/>
        </p:nvSpPr>
        <p:spPr>
          <a:xfrm>
            <a:off x="0" y="0"/>
            <a:ext cx="9143640" cy="3866400"/>
          </a:xfrm>
          <a:prstGeom prst="rect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b4dcfa">
                  <a:alpha val="79215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1" name="Rectangle 12"/>
          <p:cNvSpPr/>
          <p:nvPr/>
        </p:nvSpPr>
        <p:spPr>
          <a:xfrm>
            <a:off x="0" y="2652480"/>
            <a:ext cx="9143640" cy="2285640"/>
          </a:xfrm>
          <a:prstGeom prst="rect">
            <a:avLst/>
          </a:prstGeom>
          <a:gradFill rotWithShape="0">
            <a:gsLst>
              <a:gs pos="0">
                <a:srgbClr val="b4dcfa">
                  <a:alpha val="6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2" name="Oval 13"/>
          <p:cNvSpPr/>
          <p:nvPr/>
        </p:nvSpPr>
        <p:spPr>
          <a:xfrm>
            <a:off x="0" y="1600200"/>
            <a:ext cx="9143640" cy="5105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dt" idx="16"/>
          </p:nvPr>
        </p:nvSpPr>
        <p:spPr>
          <a:xfrm>
            <a:off x="6172200" y="6172200"/>
            <a:ext cx="25142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1" lang="ru-RU" sz="1100" spc="-1" strike="noStrike">
                <a:solidFill>
                  <a:srgbClr val="80808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1" lang="ru-RU" sz="1100" spc="-1" strike="noStrike">
                <a:solidFill>
                  <a:srgbClr val="808080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ftr" idx="17"/>
          </p:nvPr>
        </p:nvSpPr>
        <p:spPr>
          <a:xfrm>
            <a:off x="457200" y="617220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Num" idx="18"/>
          </p:nvPr>
        </p:nvSpPr>
        <p:spPr>
          <a:xfrm>
            <a:off x="3809880" y="6172200"/>
            <a:ext cx="1828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ru-RU" sz="1200" spc="-1" strike="noStrike">
                <a:solidFill>
                  <a:srgbClr val="80808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B4B62029-89F3-4318-A43E-C641A9A980C1}" type="slidenum">
              <a:rPr b="1" lang="ru-RU" sz="1200" spc="-1" strike="noStrike">
                <a:solidFill>
                  <a:srgbClr val="80808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title"/>
          </p:nvPr>
        </p:nvSpPr>
        <p:spPr>
          <a:xfrm>
            <a:off x="817560" y="3132360"/>
            <a:ext cx="7175160" cy="17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40080" indent="-457200">
              <a:lnSpc>
                <a:spcPct val="100000"/>
              </a:lnSpc>
              <a:buClr>
                <a:srgbClr val="c3260c"/>
              </a:buClr>
              <a:buSzPct val="128000"/>
              <a:buFont typeface="Georgia"/>
              <a:buChar char="*"/>
            </a:pPr>
            <a:r>
              <a:rPr b="1" lang="ru-RU" sz="5400" spc="-1" strike="noStrike">
                <a:solidFill>
                  <a:srgbClr val="000000"/>
                </a:solidFill>
                <a:latin typeface="Trebuchet MS"/>
              </a:rPr>
              <a:t>Образец заголовка</a:t>
            </a:r>
            <a:endParaRPr b="0" lang="ru-RU" sz="5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ru-RU" sz="1600" spc="-1" strike="noStrike">
              <a:solidFill>
                <a:srgbClr val="404040"/>
              </a:solidFill>
              <a:latin typeface="Trebuchet MS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ru-RU" sz="1400" spc="-1" strike="noStrike">
              <a:solidFill>
                <a:srgbClr val="404040"/>
              </a:solidFill>
              <a:latin typeface="Trebuchet MS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ru-RU" sz="2000" spc="-1" strike="noStrike">
              <a:solidFill>
                <a:srgbClr val="404040"/>
              </a:solidFill>
              <a:latin typeface="Trebuchet MS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ru-RU" sz="2000" spc="-1" strike="noStrike">
              <a:solidFill>
                <a:srgbClr val="404040"/>
              </a:solidFill>
              <a:latin typeface="Trebuchet MS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ru-RU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cd4ff"/>
            </a:gs>
            <a:gs pos="100000">
              <a:srgbClr val="5bb9ff"/>
            </a:gs>
          </a:gsLst>
          <a:path path="circle">
            <a:fillToRect l="50000" t="25000" r="50000" b="75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6" hidden="1"/>
          <p:cNvSpPr/>
          <p:nvPr/>
        </p:nvSpPr>
        <p:spPr>
          <a:xfrm>
            <a:off x="0" y="5105520"/>
            <a:ext cx="9143640" cy="1752120"/>
          </a:xfrm>
          <a:prstGeom prst="rect">
            <a:avLst/>
          </a:prstGeom>
          <a:gradFill rotWithShape="0">
            <a:gsLst>
              <a:gs pos="0">
                <a:srgbClr val="ffffff">
                  <a:alpha val="91372"/>
                </a:srgbClr>
              </a:gs>
              <a:gs pos="100000">
                <a:srgbClr val="b4dcfa">
                  <a:alpha val="79215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5" name="Rectangle 7" hidden="1"/>
          <p:cNvSpPr/>
          <p:nvPr/>
        </p:nvSpPr>
        <p:spPr>
          <a:xfrm>
            <a:off x="0" y="0"/>
            <a:ext cx="9143640" cy="5105160"/>
          </a:xfrm>
          <a:prstGeom prst="rect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b4dcfa">
                  <a:alpha val="79215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6" name="Rectangle 8" hidden="1"/>
          <p:cNvSpPr/>
          <p:nvPr/>
        </p:nvSpPr>
        <p:spPr>
          <a:xfrm>
            <a:off x="0" y="3768480"/>
            <a:ext cx="9143640" cy="2285640"/>
          </a:xfrm>
          <a:prstGeom prst="rect">
            <a:avLst/>
          </a:prstGeom>
          <a:gradFill rotWithShape="0">
            <a:gsLst>
              <a:gs pos="0">
                <a:srgbClr val="b4dcfa">
                  <a:alpha val="6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7" name="Oval 9" hidden="1"/>
          <p:cNvSpPr/>
          <p:nvPr/>
        </p:nvSpPr>
        <p:spPr>
          <a:xfrm>
            <a:off x="0" y="1600200"/>
            <a:ext cx="9143640" cy="5105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8" name="Rectangle 10"/>
          <p:cNvSpPr/>
          <p:nvPr/>
        </p:nvSpPr>
        <p:spPr>
          <a:xfrm>
            <a:off x="0" y="3866760"/>
            <a:ext cx="9143640" cy="2990880"/>
          </a:xfrm>
          <a:prstGeom prst="rect">
            <a:avLst/>
          </a:prstGeom>
          <a:gradFill rotWithShape="0">
            <a:gsLst>
              <a:gs pos="0">
                <a:srgbClr val="ffffff">
                  <a:alpha val="91372"/>
                </a:srgbClr>
              </a:gs>
              <a:gs pos="100000">
                <a:srgbClr val="b4dcfa">
                  <a:alpha val="79215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9" name="Rectangle 11"/>
          <p:cNvSpPr/>
          <p:nvPr/>
        </p:nvSpPr>
        <p:spPr>
          <a:xfrm>
            <a:off x="0" y="0"/>
            <a:ext cx="9143640" cy="3866400"/>
          </a:xfrm>
          <a:prstGeom prst="rect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b4dcfa">
                  <a:alpha val="79215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0" name="Rectangle 12"/>
          <p:cNvSpPr/>
          <p:nvPr/>
        </p:nvSpPr>
        <p:spPr>
          <a:xfrm>
            <a:off x="0" y="2652480"/>
            <a:ext cx="9143640" cy="2285640"/>
          </a:xfrm>
          <a:prstGeom prst="rect">
            <a:avLst/>
          </a:prstGeom>
          <a:gradFill rotWithShape="0">
            <a:gsLst>
              <a:gs pos="0">
                <a:srgbClr val="b4dcfa">
                  <a:alpha val="6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1" name="Oval 13"/>
          <p:cNvSpPr/>
          <p:nvPr/>
        </p:nvSpPr>
        <p:spPr>
          <a:xfrm>
            <a:off x="0" y="1600200"/>
            <a:ext cx="9143640" cy="5105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dt" idx="19"/>
          </p:nvPr>
        </p:nvSpPr>
        <p:spPr>
          <a:xfrm>
            <a:off x="6172200" y="6172200"/>
            <a:ext cx="25142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1" lang="ru-RU" sz="1100" spc="-1" strike="noStrike">
                <a:solidFill>
                  <a:srgbClr val="80808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1" lang="ru-RU" sz="1100" spc="-1" strike="noStrike">
                <a:solidFill>
                  <a:srgbClr val="808080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ftr" idx="20"/>
          </p:nvPr>
        </p:nvSpPr>
        <p:spPr>
          <a:xfrm>
            <a:off x="457200" y="617220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sldNum" idx="21"/>
          </p:nvPr>
        </p:nvSpPr>
        <p:spPr>
          <a:xfrm>
            <a:off x="3809880" y="6172200"/>
            <a:ext cx="1828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ru-RU" sz="1200" spc="-1" strike="noStrike">
                <a:solidFill>
                  <a:srgbClr val="80808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005DCC02-40D2-4287-A543-26FE4E97B1F7}" type="slidenum">
              <a:rPr b="1" lang="ru-RU" sz="1200" spc="-1" strike="noStrike">
                <a:solidFill>
                  <a:srgbClr val="80808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title"/>
          </p:nvPr>
        </p:nvSpPr>
        <p:spPr>
          <a:xfrm>
            <a:off x="817560" y="3132360"/>
            <a:ext cx="7175160" cy="17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40080" indent="-457200">
              <a:lnSpc>
                <a:spcPct val="100000"/>
              </a:lnSpc>
              <a:buClr>
                <a:srgbClr val="c3260c"/>
              </a:buClr>
              <a:buSzPct val="128000"/>
              <a:buFont typeface="Georgia"/>
              <a:buChar char="*"/>
            </a:pPr>
            <a:r>
              <a:rPr b="1" lang="ru-RU" sz="5400" spc="-1" strike="noStrike">
                <a:solidFill>
                  <a:srgbClr val="000000"/>
                </a:solidFill>
                <a:latin typeface="Trebuchet MS"/>
              </a:rPr>
              <a:t>Образец заголовка</a:t>
            </a:r>
            <a:endParaRPr b="0" lang="ru-RU" sz="5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ru-RU" sz="1600" spc="-1" strike="noStrike">
              <a:solidFill>
                <a:srgbClr val="404040"/>
              </a:solidFill>
              <a:latin typeface="Trebuchet MS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ru-RU" sz="1400" spc="-1" strike="noStrike">
              <a:solidFill>
                <a:srgbClr val="404040"/>
              </a:solidFill>
              <a:latin typeface="Trebuchet MS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ru-RU" sz="2000" spc="-1" strike="noStrike">
              <a:solidFill>
                <a:srgbClr val="404040"/>
              </a:solidFill>
              <a:latin typeface="Trebuchet MS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ru-RU" sz="2000" spc="-1" strike="noStrike">
              <a:solidFill>
                <a:srgbClr val="404040"/>
              </a:solidFill>
              <a:latin typeface="Trebuchet MS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ru-RU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cd4ff"/>
            </a:gs>
            <a:gs pos="100000">
              <a:srgbClr val="5bb9ff"/>
            </a:gs>
          </a:gsLst>
          <a:path path="circle">
            <a:fillToRect l="50000" t="25000" r="50000" b="75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6" hidden="1"/>
          <p:cNvSpPr/>
          <p:nvPr/>
        </p:nvSpPr>
        <p:spPr>
          <a:xfrm>
            <a:off x="0" y="5105520"/>
            <a:ext cx="9143640" cy="1752120"/>
          </a:xfrm>
          <a:prstGeom prst="rect">
            <a:avLst/>
          </a:prstGeom>
          <a:gradFill rotWithShape="0">
            <a:gsLst>
              <a:gs pos="0">
                <a:srgbClr val="ffffff">
                  <a:alpha val="91372"/>
                </a:srgbClr>
              </a:gs>
              <a:gs pos="100000">
                <a:srgbClr val="b4dcfa">
                  <a:alpha val="79215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4" name="Rectangle 7" hidden="1"/>
          <p:cNvSpPr/>
          <p:nvPr/>
        </p:nvSpPr>
        <p:spPr>
          <a:xfrm>
            <a:off x="0" y="0"/>
            <a:ext cx="9143640" cy="5105160"/>
          </a:xfrm>
          <a:prstGeom prst="rect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b4dcfa">
                  <a:alpha val="79215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5" name="Rectangle 8" hidden="1"/>
          <p:cNvSpPr/>
          <p:nvPr/>
        </p:nvSpPr>
        <p:spPr>
          <a:xfrm>
            <a:off x="0" y="3768480"/>
            <a:ext cx="9143640" cy="2285640"/>
          </a:xfrm>
          <a:prstGeom prst="rect">
            <a:avLst/>
          </a:prstGeom>
          <a:gradFill rotWithShape="0">
            <a:gsLst>
              <a:gs pos="0">
                <a:srgbClr val="b4dcfa">
                  <a:alpha val="6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6" name="Oval 9" hidden="1"/>
          <p:cNvSpPr/>
          <p:nvPr/>
        </p:nvSpPr>
        <p:spPr>
          <a:xfrm>
            <a:off x="0" y="1600200"/>
            <a:ext cx="9143640" cy="5105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0" y="3866760"/>
            <a:ext cx="9143640" cy="2990880"/>
          </a:xfrm>
          <a:prstGeom prst="rect">
            <a:avLst/>
          </a:prstGeom>
          <a:gradFill rotWithShape="0">
            <a:gsLst>
              <a:gs pos="0">
                <a:srgbClr val="ffffff">
                  <a:alpha val="91372"/>
                </a:srgbClr>
              </a:gs>
              <a:gs pos="100000">
                <a:srgbClr val="b4dcfa">
                  <a:alpha val="79215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0" y="0"/>
            <a:ext cx="9143640" cy="3866400"/>
          </a:xfrm>
          <a:prstGeom prst="rect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b4dcfa">
                  <a:alpha val="79215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9" name="Rectangle 12"/>
          <p:cNvSpPr/>
          <p:nvPr/>
        </p:nvSpPr>
        <p:spPr>
          <a:xfrm>
            <a:off x="0" y="2652480"/>
            <a:ext cx="9143640" cy="2285640"/>
          </a:xfrm>
          <a:prstGeom prst="rect">
            <a:avLst/>
          </a:prstGeom>
          <a:gradFill rotWithShape="0">
            <a:gsLst>
              <a:gs pos="0">
                <a:srgbClr val="b4dcfa">
                  <a:alpha val="6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0" name="Oval 13"/>
          <p:cNvSpPr/>
          <p:nvPr/>
        </p:nvSpPr>
        <p:spPr>
          <a:xfrm>
            <a:off x="0" y="1600200"/>
            <a:ext cx="9143640" cy="5105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dt" idx="22"/>
          </p:nvPr>
        </p:nvSpPr>
        <p:spPr>
          <a:xfrm>
            <a:off x="6172200" y="6172200"/>
            <a:ext cx="25142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1" lang="ru-RU" sz="1100" spc="-1" strike="noStrike">
                <a:solidFill>
                  <a:srgbClr val="80808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1" lang="ru-RU" sz="1100" spc="-1" strike="noStrike">
                <a:solidFill>
                  <a:srgbClr val="808080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ftr" idx="23"/>
          </p:nvPr>
        </p:nvSpPr>
        <p:spPr>
          <a:xfrm>
            <a:off x="457200" y="617220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sldNum" idx="24"/>
          </p:nvPr>
        </p:nvSpPr>
        <p:spPr>
          <a:xfrm>
            <a:off x="3809880" y="6172200"/>
            <a:ext cx="1828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ru-RU" sz="1200" spc="-1" strike="noStrike">
                <a:solidFill>
                  <a:srgbClr val="80808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7BCFB1A4-C43B-44C0-9AEA-E25C6E83CA72}" type="slidenum">
              <a:rPr b="1" lang="ru-RU" sz="1200" spc="-1" strike="noStrike">
                <a:solidFill>
                  <a:srgbClr val="80808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title"/>
          </p:nvPr>
        </p:nvSpPr>
        <p:spPr>
          <a:xfrm>
            <a:off x="817560" y="3132360"/>
            <a:ext cx="7175160" cy="17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40080" indent="-457200">
              <a:lnSpc>
                <a:spcPct val="100000"/>
              </a:lnSpc>
              <a:buClr>
                <a:srgbClr val="c3260c"/>
              </a:buClr>
              <a:buSzPct val="128000"/>
              <a:buFont typeface="Georgia"/>
              <a:buChar char="*"/>
            </a:pPr>
            <a:r>
              <a:rPr b="1" lang="ru-RU" sz="5400" spc="-1" strike="noStrike">
                <a:solidFill>
                  <a:srgbClr val="000000"/>
                </a:solidFill>
                <a:latin typeface="Trebuchet MS"/>
              </a:rPr>
              <a:t>Образец заголовка</a:t>
            </a:r>
            <a:endParaRPr b="0" lang="ru-RU" sz="5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ru-RU" sz="1600" spc="-1" strike="noStrike">
              <a:solidFill>
                <a:srgbClr val="404040"/>
              </a:solidFill>
              <a:latin typeface="Trebuchet MS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ru-RU" sz="1400" spc="-1" strike="noStrike">
              <a:solidFill>
                <a:srgbClr val="404040"/>
              </a:solidFill>
              <a:latin typeface="Trebuchet MS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ru-RU" sz="2000" spc="-1" strike="noStrike">
              <a:solidFill>
                <a:srgbClr val="404040"/>
              </a:solidFill>
              <a:latin typeface="Trebuchet MS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ru-RU" sz="2000" spc="-1" strike="noStrike">
              <a:solidFill>
                <a:srgbClr val="404040"/>
              </a:solidFill>
              <a:latin typeface="Trebuchet MS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ru-RU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cd4ff"/>
            </a:gs>
            <a:gs pos="100000">
              <a:srgbClr val="5bb9ff"/>
            </a:gs>
          </a:gsLst>
          <a:path path="circle">
            <a:fillToRect l="50000" t="25000" r="50000" b="75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6"/>
          <p:cNvSpPr/>
          <p:nvPr/>
        </p:nvSpPr>
        <p:spPr>
          <a:xfrm>
            <a:off x="0" y="5105520"/>
            <a:ext cx="9143640" cy="1752120"/>
          </a:xfrm>
          <a:prstGeom prst="rect">
            <a:avLst/>
          </a:prstGeom>
          <a:gradFill rotWithShape="0">
            <a:gsLst>
              <a:gs pos="0">
                <a:srgbClr val="ffffff">
                  <a:alpha val="91372"/>
                </a:srgbClr>
              </a:gs>
              <a:gs pos="100000">
                <a:srgbClr val="b4dcfa">
                  <a:alpha val="79215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3" name="Rectangle 7"/>
          <p:cNvSpPr/>
          <p:nvPr/>
        </p:nvSpPr>
        <p:spPr>
          <a:xfrm>
            <a:off x="0" y="0"/>
            <a:ext cx="9143640" cy="5105160"/>
          </a:xfrm>
          <a:prstGeom prst="rect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b4dcfa">
                  <a:alpha val="79215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4" name="Rectangle 8"/>
          <p:cNvSpPr/>
          <p:nvPr/>
        </p:nvSpPr>
        <p:spPr>
          <a:xfrm>
            <a:off x="0" y="3768480"/>
            <a:ext cx="9143640" cy="2285640"/>
          </a:xfrm>
          <a:prstGeom prst="rect">
            <a:avLst/>
          </a:prstGeom>
          <a:gradFill rotWithShape="0">
            <a:gsLst>
              <a:gs pos="0">
                <a:srgbClr val="b4dcfa">
                  <a:alpha val="6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5" name="Oval 9"/>
          <p:cNvSpPr/>
          <p:nvPr/>
        </p:nvSpPr>
        <p:spPr>
          <a:xfrm>
            <a:off x="0" y="1600200"/>
            <a:ext cx="9143640" cy="5105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dt" idx="25"/>
          </p:nvPr>
        </p:nvSpPr>
        <p:spPr>
          <a:xfrm>
            <a:off x="6172200" y="6172200"/>
            <a:ext cx="25142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1" lang="ru-RU" sz="1100" spc="-1" strike="noStrike">
                <a:solidFill>
                  <a:srgbClr val="80808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1" lang="ru-RU" sz="1100" spc="-1" strike="noStrike">
                <a:solidFill>
                  <a:srgbClr val="808080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ftr" idx="26"/>
          </p:nvPr>
        </p:nvSpPr>
        <p:spPr>
          <a:xfrm>
            <a:off x="457200" y="617220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sldNum" idx="27"/>
          </p:nvPr>
        </p:nvSpPr>
        <p:spPr>
          <a:xfrm>
            <a:off x="3809880" y="6172200"/>
            <a:ext cx="1828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ru-RU" sz="1200" spc="-1" strike="noStrike">
                <a:solidFill>
                  <a:srgbClr val="80808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0CD0875D-9067-479D-BCE3-1342AF9054CE}" type="slidenum">
              <a:rPr b="1" lang="ru-RU" sz="1200" spc="-1" strike="noStrike">
                <a:solidFill>
                  <a:srgbClr val="80808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ru-RU" sz="1600" spc="-1" strike="noStrike">
              <a:solidFill>
                <a:srgbClr val="404040"/>
              </a:solidFill>
              <a:latin typeface="Trebuchet MS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ru-RU" sz="1400" spc="-1" strike="noStrike">
              <a:solidFill>
                <a:srgbClr val="404040"/>
              </a:solidFill>
              <a:latin typeface="Trebuchet MS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ru-RU" sz="2000" spc="-1" strike="noStrike">
              <a:solidFill>
                <a:srgbClr val="404040"/>
              </a:solidFill>
              <a:latin typeface="Trebuchet MS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ru-RU" sz="2000" spc="-1" strike="noStrike">
              <a:solidFill>
                <a:srgbClr val="404040"/>
              </a:solidFill>
              <a:latin typeface="Trebuchet MS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ru-RU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9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4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07640" y="260640"/>
            <a:ext cx="8856720" cy="388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2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Применение технологии критического мышления на уроках математики </a:t>
            </a:r>
            <a:br>
              <a:rPr sz="5400"/>
            </a:b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в 5-ом  классе (стадия «вызов»)</a:t>
            </a:r>
            <a:endParaRPr b="0" lang="ru-RU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971640" y="4786200"/>
            <a:ext cx="7920360" cy="175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лодовникова  Екатерина Александровна, учитель математи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КОУ СОШ №5 г. Алзам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434800" cy="77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5 класс тема «Окружность»</a:t>
            </a:r>
            <a:r>
              <a:rPr b="1" lang="ru-RU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Игра “Верю-не верю”</a:t>
            </a:r>
            <a:br>
              <a:rPr sz="2800"/>
            </a:br>
            <a:r>
              <a:rPr b="1" lang="ru-RU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Цель игры: 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Вызвать интерес к изучению темы “окружность”, создать положительную мотивацию самостоятельного изучения текста по теме.</a:t>
            </a:r>
            <a:br>
              <a:rPr sz="1800"/>
            </a:br>
            <a:br>
              <a:rPr sz="1800"/>
            </a:b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65" name="Таблица 2"/>
          <p:cNvGraphicFramePr/>
          <p:nvPr/>
        </p:nvGraphicFramePr>
        <p:xfrm>
          <a:off x="107640" y="933840"/>
          <a:ext cx="9036000" cy="5765400"/>
        </p:xfrm>
        <a:graphic>
          <a:graphicData uri="http://schemas.openxmlformats.org/drawingml/2006/table">
            <a:tbl>
              <a:tblPr/>
              <a:tblGrid>
                <a:gridCol w="8099280"/>
                <a:gridCol w="936720"/>
              </a:tblGrid>
              <a:tr h="791280">
                <a:tc>
                  <a:txBody>
                    <a:bodyPr lIns="43200" rIns="43200" tIns="43200" bIns="432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про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200" marR="43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0" rIns="43200" tIns="43200" bIns="432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“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” верю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“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” не вер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200" marR="43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8200">
                <a:tc>
                  <a:txBody>
                    <a:bodyPr lIns="43200" rIns="43200" tIns="43200" bIns="432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Верите ли вы, что самая простая из кривых линий – окружность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200" marR="43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0" rIns="43200" tIns="43200" bIns="432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200" marR="43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83280">
                <a:tc>
                  <a:txBody>
                    <a:bodyPr lIns="43200" rIns="43200" tIns="43200" bIns="432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Верите ли вы, что древние индийцы считали самым важным элементом окружности радиус, хотя не знали такого слова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200" marR="43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0" rIns="43200" tIns="43200" bIns="432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200" marR="43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8200">
                <a:tc>
                  <a:txBody>
                    <a:bodyPr lIns="43200" rIns="43200" tIns="43200" bIns="432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Верите ли вы, что впервые термин “радиус” встречается лишь в 16 веке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200" marR="43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0" rIns="43200" tIns="43200" bIns="432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200" marR="43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8200">
                <a:tc>
                  <a:txBody>
                    <a:bodyPr lIns="43200" rIns="43200" tIns="43200" bIns="432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Верите ли вы, что в переводе с латинского радиус означает “луч”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200" marR="43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0" rIns="43200" tIns="43200" bIns="432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200" marR="43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83280">
                <a:tc>
                  <a:txBody>
                    <a:bodyPr lIns="43200" rIns="43200" tIns="43200" bIns="432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Верите ли вы, что при заданном периметре именно окружность ограничивает наибольшую площадь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200" marR="43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0" rIns="43200" tIns="43200" bIns="432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200" marR="43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83280">
                <a:tc>
                  <a:txBody>
                    <a:bodyPr lIns="43200" rIns="43200" tIns="43200" bIns="432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 Верите ли вы, что в русском языке слово “круглый” означает высшую степень чего-либо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200" marR="43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0" rIns="43200" tIns="43200" bIns="432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200" marR="43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8200">
                <a:tc>
                  <a:txBody>
                    <a:bodyPr lIns="43200" rIns="43200" tIns="43200" bIns="432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 Верите ли вы, что выражение “ходить по кругу” когда-то означало “прогресс”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200" marR="43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0" rIns="43200" tIns="43200" bIns="432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200" marR="43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8200">
                <a:tc>
                  <a:txBody>
                    <a:bodyPr lIns="43200" rIns="43200" tIns="43200" bIns="432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 Верите ли вы, что хорда в переводе с греческого означает “струна”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200" marR="43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0" rIns="43200" tIns="43200" bIns="432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200" marR="43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83280">
                <a:tc>
                  <a:txBody>
                    <a:bodyPr lIns="43200" rIns="43200" tIns="43200" bIns="432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 Верите ли вы, что определение “касательной” уже есть в первом учебнике геометрии - “Начала” Евклида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200" marR="43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200" rIns="43200" tIns="43200" bIns="432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200" marR="43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Прямоугольник 1"/>
          <p:cNvSpPr/>
          <p:nvPr/>
        </p:nvSpPr>
        <p:spPr>
          <a:xfrm>
            <a:off x="0" y="-99360"/>
            <a:ext cx="9143640" cy="65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0" i="1" lang="ru-RU" sz="1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</a:t>
            </a:r>
            <a:r>
              <a:rPr b="0" i="1" lang="ru-RU" sz="1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Ни 30 лет, ни 30 столетий не оказывают никакого влияния на ясность или на красоту геометрических истин”. Кэрролл 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0" lang="ru-RU" sz="1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Самая простая из кривых линий – окружность. Это одна из древнейших геометрических фигур. Ещё вавилоняне и древние индийцы считали самым важным элементом окружности – радиус. Слово это латинское и означает “луч”. В древности не было этого термина: Евклид и другие учёные говорили просто “прямая из центра”, Ф. Виет писал что “радиус” - это “элегантное слово”. Общепринятым термин “радиус” становится лишь в конце XVII в. Впервые термин “радиус” встречается в “Геометрии” французского ученого Рамса, изданной в 1569 год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0" lang="ru-RU" sz="1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В Древней Греции круг и окружность считались венцом совершенства. Действительно в каждой своей точке окружность “устроена” одинаково, что позволяет ей как бы двигаться “по себе”. На плоскости этим свойством обладает еще лишь прямая. Одно из интереснейших свойств круга состоит в том, что он при заданном периметре ограничивает максимальную площад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0" lang="ru-RU" sz="1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В русском языке слово “круглый” тоже стало означать высокую степень чего-либо: “круглый отличник”, “круглый сирота” и даже “круглый дурак”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0" lang="ru-RU" sz="1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Если вы когда-либо пробовали получить информацию от бюрократической организации, вас, скорее всего “погоняли по кругу”. Фраза “ходить по кругу” обычно не ассоциируется с прогрессом. Но в период индустриальной революции, выражение “ходить по кругу” очень точно отражало прогресс. Шкивы и механизмы давали машинам возможность увеличить производительность и значит сократить рабочую неделю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0" lang="ru-RU" sz="1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Без понятия круга и окружности было бы трудно говорить о круговращении жизни. Круги повсюду вокруг нас. Окружности и циклы идут, взявшись за руки. Циклы получаются при движении по кругу. Мы изучаем циклы земли, они помогают нам разобраться, когда надо сажать растения и когда мы должны встава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0" lang="ru-RU" sz="1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Представление об окружности даёт линия движения модели самолёта, прикреплённого шнуром к руке человека, также обод колеса, спицы которого соответствуют радиусам окружн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0" lang="ru-RU" sz="1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Термин “хорда” (от греческого “струна”) был введён в современном смысле европейскими учёными в XII-XIII века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0" lang="ru-RU" sz="1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Определение касательной как прямой, имеющей с окружностью только одну общую точку, встречается впервые в учебнике “Элементы геометрии” французского математика Лежандра (1752-1833 гг.). В “Началах” Евклида даётся следующее определение: прямая касается круга, если она встречает круг, но при продолжении не пересекает ег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7" name="Таблица 1"/>
          <p:cNvGraphicFramePr/>
          <p:nvPr/>
        </p:nvGraphicFramePr>
        <p:xfrm>
          <a:off x="395640" y="2709000"/>
          <a:ext cx="8362800" cy="1171440"/>
        </p:xfrm>
        <a:graphic>
          <a:graphicData uri="http://schemas.openxmlformats.org/drawingml/2006/table">
            <a:tbl>
              <a:tblPr/>
              <a:tblGrid>
                <a:gridCol w="1384920"/>
                <a:gridCol w="1395360"/>
                <a:gridCol w="1395360"/>
                <a:gridCol w="1296000"/>
                <a:gridCol w="1584000"/>
                <a:gridCol w="1306440"/>
              </a:tblGrid>
              <a:tr h="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то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то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де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гда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чему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чем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8" name="Rectangle 1"/>
          <p:cNvSpPr/>
          <p:nvPr/>
        </p:nvSpPr>
        <p:spPr>
          <a:xfrm>
            <a:off x="395640" y="636120"/>
            <a:ext cx="8208720" cy="17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Задание</a:t>
            </a:r>
            <a:r>
              <a:rPr b="0" lang="ru-RU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 Прочитав текст, составьте в тетради таблицу вопросов по нему, так чтобы вопрос начинался с указанного сло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8000"/>
          </a:bodyPr>
          <a:p>
            <a:pPr indent="0" algn="just">
              <a:lnSpc>
                <a:spcPct val="100000"/>
              </a:lnSpc>
              <a:buNone/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класс  тема «Уравнение»</a:t>
            </a:r>
            <a:br>
              <a:rPr sz="4400"/>
            </a:b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Прямоугольник 2"/>
          <p:cNvSpPr/>
          <p:nvPr/>
        </p:nvSpPr>
        <p:spPr>
          <a:xfrm>
            <a:off x="395640" y="1124640"/>
            <a:ext cx="7992360" cy="46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гадайте анаграмму и определите, какое слово лишнее. Что связывает оставшиеся слова между собо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ча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Calibri"/>
              </a:rPr>
              <a:t>гук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Calibri"/>
              </a:rPr>
              <a:t>варун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Calibri"/>
              </a:rPr>
              <a:t>извененаяс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Прямоугольник 1"/>
          <p:cNvSpPr/>
          <p:nvPr/>
        </p:nvSpPr>
        <p:spPr>
          <a:xfrm>
            <a:off x="251640" y="404640"/>
            <a:ext cx="7560360" cy="57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15000"/>
              </a:lnSpc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гадк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Он есть у дерева, цветка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Он есть у уравне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знак особый – радикал 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С ним связан, без сомнени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даний многих он ито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И с этим мы не спори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деемся что каждый смо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ветить: это…. (корень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251640" y="116640"/>
            <a:ext cx="8712720" cy="93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15000"/>
              </a:lnSpc>
              <a:buNone/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5класс тема «Числовые и буквенные выражения»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Прямоугольник 2"/>
          <p:cNvSpPr/>
          <p:nvPr/>
        </p:nvSpPr>
        <p:spPr>
          <a:xfrm>
            <a:off x="467640" y="1917000"/>
            <a:ext cx="7488360" cy="328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5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1) 25+12+15                6) (67-27)+ (84+3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2) 124+(30+18)           7) (49 +95)-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3)  а + (5 +8)                8) х + 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4)  47 -36 + х               9)   15 + 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5) (у-45) - (13+у)         10) 99 - 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95640" y="476640"/>
            <a:ext cx="82908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50000"/>
              </a:lnSpc>
              <a:buNone/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5 класс, тема «Угол. Измерение углов»</a:t>
            </a:r>
            <a:br>
              <a:rPr sz="3200"/>
            </a:b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5" name="Рисунок 2" descr="тьоргшнш"/>
          <p:cNvPicPr/>
          <p:nvPr/>
        </p:nvPicPr>
        <p:blipFill>
          <a:blip r:embed="rId1"/>
          <a:stretch/>
        </p:blipFill>
        <p:spPr>
          <a:xfrm>
            <a:off x="251640" y="1700640"/>
            <a:ext cx="8280720" cy="3240000"/>
          </a:xfrm>
          <a:prstGeom prst="rect">
            <a:avLst/>
          </a:prstGeom>
          <a:ln w="9525">
            <a:noFill/>
          </a:ln>
        </p:spPr>
      </p:pic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Прямоугольник 1"/>
          <p:cNvSpPr/>
          <p:nvPr/>
        </p:nvSpPr>
        <p:spPr>
          <a:xfrm>
            <a:off x="179640" y="116640"/>
            <a:ext cx="8784720" cy="65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15000"/>
              </a:lnSpc>
              <a:spcAft>
                <a:spcPts val="1001"/>
              </a:spcAf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Истинно или ложно моё высказывание? (игра «СВЕТОФОР»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buClr>
                <a:srgbClr val="000000"/>
              </a:buClr>
              <a:buFont typeface="Calibri"/>
              <a:buAutoNum type="arabicPeriod"/>
              <a:tabLst>
                <a:tab algn="l" pos="4572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Все существующие углы прямые (ложно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buClr>
                <a:srgbClr val="000000"/>
              </a:buClr>
              <a:buFont typeface="Calibri"/>
              <a:buAutoNum type="arabicPeriod"/>
              <a:tabLst>
                <a:tab algn="l" pos="4572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т ни одного угла, который бы нельзя было измерить в градусах (ложно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buClr>
                <a:srgbClr val="000000"/>
              </a:buClr>
              <a:buFont typeface="Calibri"/>
              <a:buAutoNum type="arabicPeriod"/>
              <a:tabLst>
                <a:tab algn="l" pos="4572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Смежные углы – это углы, у которых есть общая сторона (истинно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buClr>
                <a:srgbClr val="000000"/>
              </a:buClr>
              <a:buFont typeface="Calibri"/>
              <a:buAutoNum type="arabicPeriod"/>
              <a:tabLst>
                <a:tab algn="l" pos="4572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Угол в 110º – развернутый (ложно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buClr>
                <a:srgbClr val="000000"/>
              </a:buClr>
              <a:buFont typeface="Calibri"/>
              <a:buAutoNum type="arabicPeriod"/>
              <a:tabLst>
                <a:tab algn="l" pos="4572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Все ученики 5 класса научатся измерять градусную меру угла (истинно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4572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Прямоугольник 1"/>
          <p:cNvSpPr/>
          <p:nvPr/>
        </p:nvSpPr>
        <p:spPr>
          <a:xfrm>
            <a:off x="179640" y="260640"/>
            <a:ext cx="8856720" cy="64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15000"/>
              </a:lnSpc>
              <a:spcAft>
                <a:spcPts val="1001"/>
              </a:spcAf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Для определения целей можно использовать игру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«Верно или ложно?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spcAft>
                <a:spcPts val="1001"/>
              </a:spcAf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верное утверждение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хлопаете в ладоши; если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неверно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- поднимаете вверх ру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spcAft>
                <a:spcPts val="1001"/>
              </a:spcAf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buClr>
                <a:srgbClr val="000000"/>
              </a:buClr>
              <a:buFont typeface="Symbol"/>
              <a:buChar char=""/>
              <a:tabLst>
                <a:tab algn="l" pos="4572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Единицы измерения углов: миллиметры, сантиметр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buClr>
                <a:srgbClr val="000000"/>
              </a:buClr>
              <a:buFont typeface="Symbol"/>
              <a:buChar char=""/>
              <a:tabLst>
                <a:tab algn="l" pos="4572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Единицы измерения углов: градусы, минут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buClr>
                <a:srgbClr val="000000"/>
              </a:buClr>
              <a:buFont typeface="Symbol"/>
              <a:buChar char=""/>
              <a:tabLst>
                <a:tab algn="l" pos="4572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вёрнутый угол имеет градусную меру 100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buClr>
                <a:srgbClr val="000000"/>
              </a:buClr>
              <a:buFont typeface="Symbol"/>
              <a:buChar char=""/>
              <a:tabLst>
                <a:tab algn="l" pos="4572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вёрнутый угол равен 180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buClr>
                <a:srgbClr val="000000"/>
              </a:buClr>
              <a:buFont typeface="Symbol"/>
              <a:buChar char=""/>
              <a:tabLst>
                <a:tab algn="l" pos="4572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ямой угол равен 160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buClr>
                <a:srgbClr val="000000"/>
              </a:buClr>
              <a:buFont typeface="Symbol"/>
              <a:buChar char=""/>
              <a:tabLst>
                <a:tab algn="l" pos="4572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ямой угол равен 90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buClr>
                <a:srgbClr val="000000"/>
              </a:buClr>
              <a:buFont typeface="Symbol"/>
              <a:buChar char=""/>
              <a:tabLst>
                <a:tab algn="l" pos="4572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Острый угол больше прямого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buClr>
                <a:srgbClr val="000000"/>
              </a:buClr>
              <a:buFont typeface="Symbol"/>
              <a:buChar char=""/>
              <a:tabLst>
                <a:tab algn="l" pos="4572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Острый угол равен прямом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buClr>
                <a:srgbClr val="000000"/>
              </a:buClr>
              <a:buFont typeface="Symbol"/>
              <a:buChar char=""/>
              <a:tabLst>
                <a:tab algn="l" pos="4572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Острый угол меньше прямого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buClr>
                <a:srgbClr val="000000"/>
              </a:buClr>
              <a:buFont typeface="Symbol"/>
              <a:buChar char=""/>
              <a:tabLst>
                <a:tab algn="l" pos="4572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Тупой угол меньше прямого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buClr>
                <a:srgbClr val="000000"/>
              </a:buClr>
              <a:buFont typeface="Symbol"/>
              <a:buChar char=""/>
              <a:tabLst>
                <a:tab algn="l" pos="4572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Тупой угол всегда больше прямого и меньше развёрнутого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buClr>
                <a:srgbClr val="000000"/>
              </a:buClr>
              <a:buFont typeface="Symbol"/>
              <a:buChar char=""/>
              <a:tabLst>
                <a:tab algn="l" pos="4572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Угол, меньше 90° называется острым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buClr>
                <a:srgbClr val="000000"/>
              </a:buClr>
              <a:buFont typeface="Symbol"/>
              <a:buChar char=""/>
              <a:tabLst>
                <a:tab algn="l" pos="4572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Угол, больше 90° , но меньший 180° , называется тупым углом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84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55000"/>
          </a:bodyPr>
          <a:p>
            <a:pPr indent="0" algn="just">
              <a:lnSpc>
                <a:spcPct val="115000"/>
              </a:lnSpc>
              <a:spcAft>
                <a:spcPts val="1001"/>
              </a:spcAft>
              <a:buNone/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  <a:ea typeface="Calibri"/>
              </a:rPr>
              <a:t>5 класс, тема «Равные фигуры»</a:t>
            </a:r>
            <a:br>
              <a:rPr sz="4000"/>
            </a:b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Прямоугольник 2"/>
          <p:cNvSpPr/>
          <p:nvPr/>
        </p:nvSpPr>
        <p:spPr>
          <a:xfrm>
            <a:off x="179640" y="1124640"/>
            <a:ext cx="8640720" cy="550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15000"/>
              </a:lnSpc>
              <a:spcAft>
                <a:spcPts val="1001"/>
              </a:spcAf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Задание 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: Найдите себе пар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spcAft>
                <a:spcPts val="1001"/>
              </a:spcAf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Задание 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: Найдите периметр вашей фигуры. Учащиеся самостоятельно делают необходимые измерения и находят перимет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spcAft>
                <a:spcPts val="1001"/>
              </a:spcAf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Задание 3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: Проверьте верно вы вычислили или нет? (ответы должны быть одинаковыми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spcAft>
                <a:spcPts val="1001"/>
              </a:spcAf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spcAft>
                <a:spcPts val="1001"/>
              </a:spcAf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Делаем выводы- равные фигуры имеют равные периметры; если не равны, то выясняем в чем ошибка (не знаем формулу периметра, не умеем вычислять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/>
          </p:nvPr>
        </p:nvSpPr>
        <p:spPr>
          <a:xfrm>
            <a:off x="611640" y="1071720"/>
            <a:ext cx="8278200" cy="545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Ученик, умеющий критически мыслить: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ладеет разнообразными способами интерпретации и оценки информационного сообщения,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пособен выделять в тексте противоречия и типы присутствующих в нем структур,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ожет аргументировать свою точку зрения,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0" y="332640"/>
            <a:ext cx="8686440" cy="93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5000"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5 класс  тема «Действия с обыкновенными дробями»</a:t>
            </a:r>
            <a:br>
              <a:rPr sz="36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900" spc="-1" strike="noStrike">
                <a:solidFill>
                  <a:srgbClr val="000000"/>
                </a:solidFill>
                <a:latin typeface="Calibri"/>
              </a:rPr>
              <a:t>Дерево предсказаний</a:t>
            </a:r>
            <a:endParaRPr b="0" lang="ru-RU" sz="4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1" name="Picture 2" descr="C:\Users\almaz-2017\Pictures\029.jpg"/>
          <p:cNvPicPr/>
          <p:nvPr/>
        </p:nvPicPr>
        <p:blipFill>
          <a:blip r:embed="rId1"/>
          <a:srcRect l="7272" t="11622" r="51531" b="8892"/>
          <a:stretch/>
        </p:blipFill>
        <p:spPr>
          <a:xfrm>
            <a:off x="683640" y="1615320"/>
            <a:ext cx="3763800" cy="497952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3" descr="C:\Users\almaz-2017\Pictures\029.jpg"/>
          <p:cNvPicPr/>
          <p:nvPr/>
        </p:nvPicPr>
        <p:blipFill>
          <a:blip r:embed="rId2"/>
          <a:srcRect l="51165" t="12000" r="7335" b="8446"/>
          <a:stretch/>
        </p:blipFill>
        <p:spPr>
          <a:xfrm>
            <a:off x="5076000" y="1712520"/>
            <a:ext cx="3578400" cy="51451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06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5000"/>
          </a:bodyPr>
          <a:p>
            <a:pPr indent="0" algn="ctr">
              <a:lnSpc>
                <a:spcPct val="100000"/>
              </a:lnSpc>
              <a:buNone/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5 класс, тема «Треугольники»</a:t>
            </a:r>
            <a:br>
              <a:rPr sz="3600"/>
            </a:br>
            <a:r>
              <a:rPr b="1" lang="ru-RU" sz="4900" spc="-1" strike="noStrike">
                <a:solidFill>
                  <a:srgbClr val="000000"/>
                </a:solidFill>
                <a:latin typeface="Calibri"/>
              </a:rPr>
              <a:t>Кластер</a:t>
            </a:r>
            <a:endParaRPr b="0" lang="ru-RU" sz="4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4" name="Picture 2" descr="C:\Users\almaz-2017\Pictures\img3 (1).jpg"/>
          <p:cNvPicPr/>
          <p:nvPr/>
        </p:nvPicPr>
        <p:blipFill>
          <a:blip r:embed="rId1"/>
          <a:stretch/>
        </p:blipFill>
        <p:spPr>
          <a:xfrm>
            <a:off x="20160" y="1340640"/>
            <a:ext cx="5435640" cy="422064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3" descr=""/>
          <p:cNvPicPr/>
          <p:nvPr/>
        </p:nvPicPr>
        <p:blipFill>
          <a:blip r:embed="rId2"/>
          <a:stretch/>
        </p:blipFill>
        <p:spPr>
          <a:xfrm>
            <a:off x="4334400" y="3933000"/>
            <a:ext cx="4809240" cy="29246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60640"/>
            <a:ext cx="8229240" cy="85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7000"/>
          </a:bodyPr>
          <a:p>
            <a:pPr indent="0" algn="ctr">
              <a:lnSpc>
                <a:spcPct val="100000"/>
              </a:lnSpc>
              <a:buNone/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5 класс, тема «Площадь и периметр прямоугольника»  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УБИК БЛУМ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7" name="Picture 3" descr=""/>
          <p:cNvPicPr/>
          <p:nvPr/>
        </p:nvPicPr>
        <p:blipFill>
          <a:blip r:embed="rId1"/>
          <a:stretch/>
        </p:blipFill>
        <p:spPr>
          <a:xfrm>
            <a:off x="63720" y="3069000"/>
            <a:ext cx="8967600" cy="186480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4" descr=""/>
          <p:cNvPicPr/>
          <p:nvPr/>
        </p:nvPicPr>
        <p:blipFill>
          <a:blip r:embed="rId2"/>
          <a:stretch/>
        </p:blipFill>
        <p:spPr>
          <a:xfrm>
            <a:off x="2338200" y="1187640"/>
            <a:ext cx="2195280" cy="56271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116640"/>
            <a:ext cx="8229240" cy="100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5 класс, тема «Сравнение десятичных дробей»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Прямоугольник 2"/>
          <p:cNvSpPr/>
          <p:nvPr/>
        </p:nvSpPr>
        <p:spPr>
          <a:xfrm>
            <a:off x="179640" y="1196640"/>
            <a:ext cx="872496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е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«ЛОВИ ОШИБКУ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1" name="Таблица 4"/>
          <p:cNvGraphicFramePr/>
          <p:nvPr/>
        </p:nvGraphicFramePr>
        <p:xfrm>
          <a:off x="827640" y="2619360"/>
          <a:ext cx="7632360" cy="3689640"/>
        </p:xfrm>
        <a:graphic>
          <a:graphicData uri="http://schemas.openxmlformats.org/drawingml/2006/table">
            <a:tbl>
              <a:tblPr/>
              <a:tblGrid>
                <a:gridCol w="3816000"/>
                <a:gridCol w="3816720"/>
              </a:tblGrid>
              <a:tr h="10540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,29    &lt;  3,9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4,6 ˃  35,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540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,123  ˃  0,2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2,023  &lt;  12,0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540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5,74  &lt;   15,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5,4  ˃  53,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70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,05   &lt; 2,00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,0001 &lt; 0,0000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2" name="Rectangle 1"/>
          <p:cNvSpPr/>
          <p:nvPr/>
        </p:nvSpPr>
        <p:spPr>
          <a:xfrm>
            <a:off x="1533600" y="2390760"/>
            <a:ext cx="91436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ubTitle"/>
          </p:nvPr>
        </p:nvSpPr>
        <p:spPr>
          <a:xfrm>
            <a:off x="1473840" y="5052600"/>
            <a:ext cx="5636520" cy="8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/>
            <a:endParaRPr b="0" lang="en-US" sz="2200" spc="-1" strike="noStrike">
              <a:solidFill>
                <a:srgbClr val="212745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title"/>
          </p:nvPr>
        </p:nvSpPr>
        <p:spPr>
          <a:xfrm>
            <a:off x="683640" y="548640"/>
            <a:ext cx="7848360" cy="669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8288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Trebuchet MS"/>
              </a:rPr>
              <a:t>Я приветствую вас на уроке математики!</a:t>
            </a:r>
            <a:br>
              <a:rPr sz="5400"/>
            </a:br>
            <a:r>
              <a:rPr b="1" i="1" lang="ru-RU" sz="5400" spc="-1" strike="noStrike">
                <a:solidFill>
                  <a:srgbClr val="000000"/>
                </a:solidFill>
                <a:latin typeface="Trebuchet MS"/>
              </a:rPr>
              <a:t>Проверьте готовность к уроку.</a:t>
            </a:r>
            <a:endParaRPr b="0" lang="ru-RU" sz="5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1473840" y="5052600"/>
            <a:ext cx="5636520" cy="8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/>
            <a:endParaRPr b="0" lang="en-US" sz="2200" spc="-1" strike="noStrike">
              <a:solidFill>
                <a:srgbClr val="212745"/>
              </a:solidFill>
              <a:latin typeface="Trebuchet MS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title"/>
          </p:nvPr>
        </p:nvSpPr>
        <p:spPr>
          <a:xfrm>
            <a:off x="817560" y="3132360"/>
            <a:ext cx="7175160" cy="17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40080" indent="-457200">
              <a:lnSpc>
                <a:spcPct val="100000"/>
              </a:lnSpc>
              <a:buClr>
                <a:srgbClr val="c3260c"/>
              </a:buClr>
              <a:buSzPct val="128000"/>
              <a:buFont typeface="Georgia"/>
              <a:buChar char="*"/>
            </a:pPr>
            <a:r>
              <a:rPr b="1" lang="ru-RU" sz="7200" spc="-1" strike="noStrike">
                <a:solidFill>
                  <a:srgbClr val="404040"/>
                </a:solidFill>
                <a:latin typeface="Times New Roman"/>
                <a:ea typeface="Calibri"/>
              </a:rPr>
              <a:t>3‹ </a:t>
            </a:r>
            <a:r>
              <a:rPr b="1" lang="ru-RU" sz="7200" spc="-1" strike="noStrike">
                <a:solidFill>
                  <a:srgbClr val="c00000"/>
                </a:solidFill>
                <a:latin typeface="Times New Roman"/>
                <a:ea typeface="Calibri"/>
              </a:rPr>
              <a:t>3 ? 4</a:t>
            </a:r>
            <a:r>
              <a:rPr b="1" lang="ru-RU" sz="7200" spc="-1" strike="noStrike">
                <a:solidFill>
                  <a:srgbClr val="404040"/>
                </a:solidFill>
                <a:latin typeface="Times New Roman"/>
                <a:ea typeface="Calibri"/>
              </a:rPr>
              <a:t> ‹4</a:t>
            </a:r>
            <a:endParaRPr b="0" lang="ru-RU" sz="7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1473840" y="5052600"/>
            <a:ext cx="5636520" cy="8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/>
            <a:endParaRPr b="0" lang="en-US" sz="2200" spc="-1" strike="noStrike">
              <a:solidFill>
                <a:srgbClr val="212745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title"/>
          </p:nvPr>
        </p:nvSpPr>
        <p:spPr>
          <a:xfrm>
            <a:off x="817560" y="3132360"/>
            <a:ext cx="7175160" cy="17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40080" indent="-457200">
              <a:lnSpc>
                <a:spcPct val="100000"/>
              </a:lnSpc>
              <a:buClr>
                <a:srgbClr val="c3260c"/>
              </a:buClr>
              <a:buSzPct val="128000"/>
              <a:buFont typeface="Georgia"/>
              <a:buChar char="*"/>
            </a:pPr>
            <a:r>
              <a:rPr b="1" lang="ru-RU" sz="7200" spc="-1" strike="noStrike">
                <a:solidFill>
                  <a:srgbClr val="404040"/>
                </a:solidFill>
                <a:latin typeface="Times New Roman"/>
                <a:ea typeface="Calibri"/>
              </a:rPr>
              <a:t>3‹ </a:t>
            </a:r>
            <a:r>
              <a:rPr b="1" lang="ru-RU" sz="7200" spc="-1" strike="noStrike">
                <a:solidFill>
                  <a:srgbClr val="c00000"/>
                </a:solidFill>
                <a:latin typeface="Times New Roman"/>
                <a:ea typeface="Calibri"/>
              </a:rPr>
              <a:t>3,4</a:t>
            </a:r>
            <a:r>
              <a:rPr b="1" lang="ru-RU" sz="7200" spc="-1" strike="noStrike">
                <a:solidFill>
                  <a:srgbClr val="404040"/>
                </a:solidFill>
                <a:latin typeface="Times New Roman"/>
                <a:ea typeface="Calibri"/>
              </a:rPr>
              <a:t> ‹4</a:t>
            </a:r>
            <a:endParaRPr b="0" lang="ru-RU" sz="7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Picture 2" descr="https://i.ytimg.com/vi/vF9Q92_JpEE/maxresdefault.jpg"/>
          <p:cNvPicPr/>
          <p:nvPr/>
        </p:nvPicPr>
        <p:blipFill>
          <a:blip r:embed="rId1"/>
          <a:stretch/>
        </p:blipFill>
        <p:spPr>
          <a:xfrm>
            <a:off x="1979640" y="-99360"/>
            <a:ext cx="4344840" cy="371664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4" descr="http://ipadstory.ru/wp-content/uploads/2016/02/guinnes-1.jpg"/>
          <p:cNvPicPr/>
          <p:nvPr/>
        </p:nvPicPr>
        <p:blipFill>
          <a:blip r:embed="rId2"/>
          <a:stretch/>
        </p:blipFill>
        <p:spPr>
          <a:xfrm>
            <a:off x="4402080" y="2273400"/>
            <a:ext cx="4571640" cy="457164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6" descr="http://s019.radikal.ru/i621/1406/a0/865e10660150.jpg"/>
          <p:cNvPicPr/>
          <p:nvPr/>
        </p:nvPicPr>
        <p:blipFill>
          <a:blip r:embed="rId3"/>
          <a:stretch/>
        </p:blipFill>
        <p:spPr>
          <a:xfrm>
            <a:off x="6588360" y="20520"/>
            <a:ext cx="2385720" cy="304812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8" descr="http://www.nwcod.com/uploads/posts/2009-08/1251527776_4a7e30b5fc92.jpg"/>
          <p:cNvPicPr/>
          <p:nvPr/>
        </p:nvPicPr>
        <p:blipFill>
          <a:blip r:embed="rId4"/>
          <a:stretch/>
        </p:blipFill>
        <p:spPr>
          <a:xfrm>
            <a:off x="0" y="2476440"/>
            <a:ext cx="3904920" cy="43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Прямоугольник 1"/>
          <p:cNvSpPr/>
          <p:nvPr/>
        </p:nvSpPr>
        <p:spPr>
          <a:xfrm>
            <a:off x="179640" y="188640"/>
            <a:ext cx="8856720" cy="66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е 1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 Прочитайте  текст из «Книги рекордов Гиннеса». (устно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е 2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Выпишите только десятичные дроб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е 3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Округлите дроби до десятых     (сразу запишите ответы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е 4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Округлите дроби до единиц  (сразу запишите ответы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е 5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Запишите дроби  в порядке возраста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е 6.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йдите сумму наибольшего и наименьшего чисе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  <a:ea typeface="Calibri"/>
              </a:rPr>
              <a:t>5 класс, тема «Сложение и вычитание десятичных дробей»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Прямоугольник 2"/>
          <p:cNvSpPr/>
          <p:nvPr/>
        </p:nvSpPr>
        <p:spPr>
          <a:xfrm>
            <a:off x="179640" y="1637640"/>
            <a:ext cx="8568720" cy="45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Датский дог Гибсон был самой высокой в мире собакой. Его рост составлял 107,18 см от пола до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еча, а на задних лапах он достигал 2,19 метр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 7 июля 2006 года самой маленькой лошадью была Тамбелина – миниатюрная гнедая кобыла 44,5 см в холке, хозяевами которой являются Кей и Пол Госслинг из Сейнт-Луиса, штат Миссури. Радар – бельгийский конь – тяжеловоз – на 27 июля 2004 года составлял 19,5 ладоней без копыт. Радар живет на ферме в Техас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51640" y="571320"/>
            <a:ext cx="8892000" cy="84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Ученик, умеющий критически мыслить:</a:t>
            </a:r>
            <a:br>
              <a:rPr sz="3600"/>
            </a:b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67640" y="1447920"/>
            <a:ext cx="8496720" cy="48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увствует уверенность в работе с различными типами информации,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ожет эффективно использовать самые разнообразные ресурсы,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меет эффективно взаимодействовать с информационными пространствами, возможность сосуществования разнообразных точек зрения в рамках общечеловеческих ценностей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 rot="10800000">
            <a:off x="457200" y="0"/>
            <a:ext cx="8229240" cy="27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27000"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Прямоугольник 2"/>
          <p:cNvSpPr/>
          <p:nvPr/>
        </p:nvSpPr>
        <p:spPr>
          <a:xfrm>
            <a:off x="323640" y="476640"/>
            <a:ext cx="8424720" cy="56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15000"/>
              </a:lnSpc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е 1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Прочитайте  текст из «Книги рекордов Гиннеса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е 2.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ишите только десятичные дроб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е 3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Округлите дроби до десятых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е 4.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руглите дроби до единиц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е 5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Запишите числа в порядке возраст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е 6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Найдите сумму наибольшего и наименьшего чисе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1880" y="188640"/>
            <a:ext cx="597636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7000"/>
          </a:bodyPr>
          <a:p>
            <a:pPr indent="0" algn="ctr">
              <a:lnSpc>
                <a:spcPct val="100000"/>
              </a:lnSpc>
              <a:buNone/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</a:rPr>
              <a:t>5 класс, тема «Сложение и вычитание десятичных дробей»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Прямоугольник 4"/>
          <p:cNvSpPr/>
          <p:nvPr/>
        </p:nvSpPr>
        <p:spPr>
          <a:xfrm>
            <a:off x="0" y="1989000"/>
            <a:ext cx="4571640" cy="45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амые большие в мире овощи и фрукт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ананас - 8,06 кг,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яблоко - 1,67 кг,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абачок - 61,23 кг,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артофель - 11,2 кг,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луковица - 7,03 к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Picture 5" descr="C:\Users\almaz-2017\Pictures\600714f989fae_0.jpg"/>
          <p:cNvPicPr/>
          <p:nvPr/>
        </p:nvPicPr>
        <p:blipFill>
          <a:blip r:embed="rId1"/>
          <a:srcRect l="12484" t="0" r="12279" b="47908"/>
          <a:stretch/>
        </p:blipFill>
        <p:spPr>
          <a:xfrm>
            <a:off x="3632040" y="4183560"/>
            <a:ext cx="5531760" cy="265896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6" descr="C:\Users\almaz-2017\Pictures\k-chemu-snyatsya-bol-shie-yabloki-tolkovanie-po-sonnikam-2.jpg"/>
          <p:cNvPicPr/>
          <p:nvPr/>
        </p:nvPicPr>
        <p:blipFill>
          <a:blip r:embed="rId2"/>
          <a:srcRect l="3803" t="12531" r="25169" b="0"/>
          <a:stretch/>
        </p:blipFill>
        <p:spPr>
          <a:xfrm>
            <a:off x="5938200" y="28080"/>
            <a:ext cx="3205440" cy="324000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7" descr="C:\Users\almaz-2017\Pictures\OX03-4854.jpg"/>
          <p:cNvPicPr/>
          <p:nvPr/>
        </p:nvPicPr>
        <p:blipFill>
          <a:blip r:embed="rId3"/>
          <a:srcRect l="24706" t="2855" r="9186" b="14281"/>
          <a:stretch/>
        </p:blipFill>
        <p:spPr>
          <a:xfrm>
            <a:off x="4068000" y="1268640"/>
            <a:ext cx="2935080" cy="32241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-180360" y="620640"/>
            <a:ext cx="9143640" cy="50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35000"/>
          </a:bodyPr>
          <a:p>
            <a:pPr indent="0" algn="just">
              <a:lnSpc>
                <a:spcPct val="115000"/>
              </a:lnSpc>
              <a:buNone/>
              <a:tabLst>
                <a:tab algn="l" pos="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едлагаю из этого набора приготовить</a:t>
            </a:r>
            <a:br>
              <a:rPr sz="3600"/>
            </a:b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Rectangle 1"/>
          <p:cNvSpPr/>
          <p:nvPr/>
        </p:nvSpPr>
        <p:spPr>
          <a:xfrm>
            <a:off x="1477800" y="3293640"/>
            <a:ext cx="639720" cy="3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5" name="Таблица 5"/>
          <p:cNvGraphicFramePr/>
          <p:nvPr/>
        </p:nvGraphicFramePr>
        <p:xfrm>
          <a:off x="179640" y="2061000"/>
          <a:ext cx="8568720" cy="4525560"/>
        </p:xfrm>
        <a:graphic>
          <a:graphicData uri="http://schemas.openxmlformats.org/drawingml/2006/table">
            <a:tbl>
              <a:tblPr/>
              <a:tblGrid>
                <a:gridCol w="4083840"/>
                <a:gridCol w="501120"/>
                <a:gridCol w="3983400"/>
              </a:tblGrid>
              <a:tr h="106596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пюре «яблочно-кабачковое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фруктовый сала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6596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пюре «кабачково-ананасовое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овощное раг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29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асса какого пюре больше и на сколько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сса чего больше и на сколько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Прямоугольник 1"/>
          <p:cNvSpPr/>
          <p:nvPr/>
        </p:nvSpPr>
        <p:spPr>
          <a:xfrm>
            <a:off x="251640" y="404640"/>
            <a:ext cx="8640720" cy="59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Таким образом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,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стадия вызов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в рамках уроков  применения технологии критического мышления выполняет сразу несколько функций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-мотивационную (пробуждает интерес к теме, побуждает к работе с новой информацией)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-информационную (заставляет вспомнить то, что уже известно по  теме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- коммуникационную (предполагает бесконфликтный обмен мнениями и предположениями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Рисунок 1" descr=""/>
          <p:cNvPicPr/>
          <p:nvPr/>
        </p:nvPicPr>
        <p:blipFill>
          <a:blip r:embed="rId1"/>
          <a:srcRect l="31462" t="17783" r="11873" b="0"/>
          <a:stretch/>
        </p:blipFill>
        <p:spPr>
          <a:xfrm>
            <a:off x="1403640" y="0"/>
            <a:ext cx="7740000" cy="5517000"/>
          </a:xfrm>
          <a:prstGeom prst="rect">
            <a:avLst/>
          </a:prstGeom>
          <a:ln w="0">
            <a:noFill/>
          </a:ln>
        </p:spPr>
      </p:pic>
      <p:sp>
        <p:nvSpPr>
          <p:cNvPr id="518" name="Прямоугольник 2"/>
          <p:cNvSpPr/>
          <p:nvPr/>
        </p:nvSpPr>
        <p:spPr>
          <a:xfrm>
            <a:off x="179640" y="5840280"/>
            <a:ext cx="87847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Желаю  всем   творческих   успехов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п урока "Вызов" предназначен для того, чтобы вызвать:</a:t>
            </a:r>
            <a:br>
              <a:rPr sz="3600"/>
            </a:b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Прямоугольник 2"/>
          <p:cNvSpPr/>
          <p:nvPr/>
        </p:nvSpPr>
        <p:spPr>
          <a:xfrm>
            <a:off x="323640" y="2117160"/>
            <a:ext cx="8640720" cy="40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 algn="just">
              <a:lnSpc>
                <a:spcPct val="115000"/>
              </a:lnSpc>
              <a:buClr>
                <a:srgbClr val="000000"/>
              </a:buClr>
              <a:buFont typeface="Symbol"/>
              <a:buChar char=""/>
              <a:tabLst>
                <a:tab algn="l" pos="4572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звать в памяти учащихся ту информацию, которая пригодится на данном урок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4572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buClr>
                <a:srgbClr val="000000"/>
              </a:buClr>
              <a:buFont typeface="Symbol"/>
              <a:buChar char=""/>
              <a:tabLst>
                <a:tab algn="l" pos="4572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ес к новой тем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4572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buClr>
                <a:srgbClr val="000000"/>
              </a:buClr>
              <a:buFont typeface="Symbol"/>
              <a:buChar char=""/>
              <a:tabLst>
                <a:tab algn="l" pos="4572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ость учащих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spcAft>
                <a:spcPts val="1001"/>
              </a:spcAft>
              <a:tabLst>
                <a:tab algn="l" pos="4572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79640" y="188640"/>
            <a:ext cx="8640720" cy="115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8000"/>
          </a:bodyPr>
          <a:p>
            <a:pPr indent="0" algn="just">
              <a:lnSpc>
                <a:spcPct val="115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Стадия «вызова» на уроке решает несколько задач: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Прямоугольник 2"/>
          <p:cNvSpPr/>
          <p:nvPr/>
        </p:nvSpPr>
        <p:spPr>
          <a:xfrm>
            <a:off x="179640" y="1340640"/>
            <a:ext cx="8856720" cy="548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 algn="just">
              <a:lnSpc>
                <a:spcPct val="115000"/>
              </a:lnSpc>
              <a:buClr>
                <a:srgbClr val="000000"/>
              </a:buClr>
              <a:buFont typeface="Symbol"/>
              <a:buChar char=""/>
              <a:tabLst>
                <a:tab algn="l" pos="4572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формировать положительную мотивацию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457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buClr>
                <a:srgbClr val="000000"/>
              </a:buClr>
              <a:buFont typeface="Symbol"/>
              <a:buChar char=""/>
              <a:tabLst>
                <a:tab algn="l" pos="4572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звать интерес учащихся к новой тем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457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buClr>
                <a:srgbClr val="000000"/>
              </a:buClr>
              <a:buFont typeface="Symbol"/>
              <a:buChar char=""/>
              <a:tabLst>
                <a:tab algn="l" pos="4572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формулировать главные цели уро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457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buClr>
                <a:srgbClr val="000000"/>
              </a:buClr>
              <a:buFont typeface="Symbol"/>
              <a:buChar char=""/>
              <a:tabLst>
                <a:tab algn="l" pos="4572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метить круг вопросов, которые будут решаться на урок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457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buClr>
                <a:srgbClr val="000000"/>
              </a:buClr>
              <a:buFont typeface="Symbol"/>
              <a:buChar char=""/>
              <a:tabLst>
                <a:tab algn="l" pos="4572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изировать деятельность учащихся, включить их в работ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36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7000"/>
          </a:bodyPr>
          <a:p>
            <a:pPr indent="0" algn="ctr">
              <a:lnSpc>
                <a:spcPct val="100000"/>
              </a:lnSpc>
              <a:buNone/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класс  тема «Сложение и вычитание натуральных чисел. Периметр»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58" name="Таблица 2"/>
          <p:cNvGraphicFramePr/>
          <p:nvPr/>
        </p:nvGraphicFramePr>
        <p:xfrm>
          <a:off x="683640" y="2277000"/>
          <a:ext cx="7560360" cy="3618720"/>
        </p:xfrm>
        <a:graphic>
          <a:graphicData uri="http://schemas.openxmlformats.org/drawingml/2006/table">
            <a:tbl>
              <a:tblPr/>
              <a:tblGrid>
                <a:gridCol w="1889280"/>
                <a:gridCol w="1890360"/>
                <a:gridCol w="1890360"/>
                <a:gridCol w="1890360"/>
              </a:tblGrid>
              <a:tr h="8100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9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9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00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7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5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00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00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332640"/>
            <a:ext cx="822924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56000"/>
          </a:bodyPr>
          <a:p>
            <a:pPr indent="0" algn="just">
              <a:lnSpc>
                <a:spcPct val="115000"/>
              </a:lnSpc>
              <a:buNone/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  <a:ea typeface="Calibri"/>
              </a:rPr>
              <a:t>5 класс, тема «Свойства сложения» </a:t>
            </a:r>
            <a:br>
              <a:rPr sz="4000"/>
            </a:b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Прямоугольник 2"/>
          <p:cNvSpPr/>
          <p:nvPr/>
        </p:nvSpPr>
        <p:spPr>
          <a:xfrm>
            <a:off x="467640" y="1196640"/>
            <a:ext cx="8352720" cy="603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15000"/>
              </a:lnSpc>
              <a:spcAft>
                <a:spcPts val="1001"/>
              </a:spcAf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истории математики известен такой случай. Однажды, а было это в Германии, в конце 18 века, для того чтобы заставить учеников поработать, учитель дал им задание подсчитать сумму всех натуральных чисел от 1 до 100. Каково же было его удивление, когда уже через несколько минут один ученик сказал ему ответ. Этот ученик, Карл Фридрих Гаусс, а ему было тогда 10 лет, стал одним из великих математиков мира. Как  вы думаете, как маленькому Гауссу удалось быстро подсчитать сумм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spcAft>
                <a:spcPts val="1001"/>
              </a:spcAf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79640" y="1124640"/>
            <a:ext cx="8964000" cy="151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1+2+3+4+…..+97+98+99+100=?</a:t>
            </a:r>
            <a:endParaRPr b="0" lang="ru-RU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60640"/>
            <a:ext cx="8229240" cy="115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5 класс тема «Формулы» .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ем «ПАЗЛ»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Прямоугольник 2"/>
          <p:cNvSpPr/>
          <p:nvPr/>
        </p:nvSpPr>
        <p:spPr>
          <a:xfrm>
            <a:off x="323640" y="1556640"/>
            <a:ext cx="8136720" cy="51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ts val="165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доске записаны формулы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650"/>
              </a:lnSpc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650"/>
              </a:lnSpc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65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 s = a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650"/>
              </a:lnSpc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650"/>
              </a:lnSpc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65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p = 4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650"/>
              </a:lnSpc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650"/>
              </a:lnSpc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65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s = v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650"/>
              </a:lnSpc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650"/>
              </a:lnSpc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65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p = (a + b)∙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650"/>
              </a:lnSpc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650"/>
              </a:lnSpc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650"/>
              </a:lnSpc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650"/>
              </a:lnSpc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650"/>
              </a:lnSpc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650"/>
              </a:lnSpc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) s = a 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650"/>
              </a:lnSpc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650"/>
              </a:lnSpc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650"/>
              </a:lnSpc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дите дружную пару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650"/>
              </a:lnSpc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650"/>
              </a:lnSpc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Название формулы – Формул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Специальное оформление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4_Воздушный поток">
  <a:themeElements>
    <a:clrScheme name="Воздушный поток">
      <a:dk1>
        <a:srgbClr val="000000"/>
      </a:dk1>
      <a:lt1>
        <a:srgbClr val="ffffff"/>
      </a:lt1>
      <a:dk2>
        <a:srgbClr val="212745"/>
      </a:dk2>
      <a:lt2>
        <a:srgbClr val="b4dcfa"/>
      </a:lt2>
      <a:accent1>
        <a:srgbClr val="4e67c8"/>
      </a:accent1>
      <a:accent2>
        <a:srgbClr val="5eccf3"/>
      </a:accent2>
      <a:accent3>
        <a:srgbClr val="a7ea52"/>
      </a:accent3>
      <a:accent4>
        <a:srgbClr val="5dceaf"/>
      </a:accent4>
      <a:accent5>
        <a:srgbClr val="ff8021"/>
      </a:accent5>
      <a:accent6>
        <a:srgbClr val="f14124"/>
      </a:accent6>
      <a:hlink>
        <a:srgbClr val="56c7aa"/>
      </a:hlink>
      <a:folHlink>
        <a:srgbClr val="59a8d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Воздушный поток">
  <a:themeElements>
    <a:clrScheme name="Воздушный поток">
      <a:dk1>
        <a:srgbClr val="000000"/>
      </a:dk1>
      <a:lt1>
        <a:srgbClr val="ffffff"/>
      </a:lt1>
      <a:dk2>
        <a:srgbClr val="212745"/>
      </a:dk2>
      <a:lt2>
        <a:srgbClr val="b4dcfa"/>
      </a:lt2>
      <a:accent1>
        <a:srgbClr val="4e67c8"/>
      </a:accent1>
      <a:accent2>
        <a:srgbClr val="5eccf3"/>
      </a:accent2>
      <a:accent3>
        <a:srgbClr val="a7ea52"/>
      </a:accent3>
      <a:accent4>
        <a:srgbClr val="5dceaf"/>
      </a:accent4>
      <a:accent5>
        <a:srgbClr val="ff8021"/>
      </a:accent5>
      <a:accent6>
        <a:srgbClr val="f14124"/>
      </a:accent6>
      <a:hlink>
        <a:srgbClr val="56c7aa"/>
      </a:hlink>
      <a:folHlink>
        <a:srgbClr val="59a8d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1_Воздушный поток">
  <a:themeElements>
    <a:clrScheme name="Воздушный поток">
      <a:dk1>
        <a:srgbClr val="000000"/>
      </a:dk1>
      <a:lt1>
        <a:srgbClr val="ffffff"/>
      </a:lt1>
      <a:dk2>
        <a:srgbClr val="212745"/>
      </a:dk2>
      <a:lt2>
        <a:srgbClr val="b4dcfa"/>
      </a:lt2>
      <a:accent1>
        <a:srgbClr val="4e67c8"/>
      </a:accent1>
      <a:accent2>
        <a:srgbClr val="5eccf3"/>
      </a:accent2>
      <a:accent3>
        <a:srgbClr val="a7ea52"/>
      </a:accent3>
      <a:accent4>
        <a:srgbClr val="5dceaf"/>
      </a:accent4>
      <a:accent5>
        <a:srgbClr val="ff8021"/>
      </a:accent5>
      <a:accent6>
        <a:srgbClr val="f14124"/>
      </a:accent6>
      <a:hlink>
        <a:srgbClr val="56c7aa"/>
      </a:hlink>
      <a:folHlink>
        <a:srgbClr val="59a8d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2_Воздушный поток">
  <a:themeElements>
    <a:clrScheme name="Воздушный поток">
      <a:dk1>
        <a:srgbClr val="000000"/>
      </a:dk1>
      <a:lt1>
        <a:srgbClr val="ffffff"/>
      </a:lt1>
      <a:dk2>
        <a:srgbClr val="212745"/>
      </a:dk2>
      <a:lt2>
        <a:srgbClr val="b4dcfa"/>
      </a:lt2>
      <a:accent1>
        <a:srgbClr val="4e67c8"/>
      </a:accent1>
      <a:accent2>
        <a:srgbClr val="5eccf3"/>
      </a:accent2>
      <a:accent3>
        <a:srgbClr val="a7ea52"/>
      </a:accent3>
      <a:accent4>
        <a:srgbClr val="5dceaf"/>
      </a:accent4>
      <a:accent5>
        <a:srgbClr val="ff8021"/>
      </a:accent5>
      <a:accent6>
        <a:srgbClr val="f14124"/>
      </a:accent6>
      <a:hlink>
        <a:srgbClr val="56c7aa"/>
      </a:hlink>
      <a:folHlink>
        <a:srgbClr val="59a8d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3_Воздушный поток">
  <a:themeElements>
    <a:clrScheme name="Воздушный поток">
      <a:dk1>
        <a:srgbClr val="000000"/>
      </a:dk1>
      <a:lt1>
        <a:srgbClr val="ffffff"/>
      </a:lt1>
      <a:dk2>
        <a:srgbClr val="212745"/>
      </a:dk2>
      <a:lt2>
        <a:srgbClr val="b4dcfa"/>
      </a:lt2>
      <a:accent1>
        <a:srgbClr val="4e67c8"/>
      </a:accent1>
      <a:accent2>
        <a:srgbClr val="5eccf3"/>
      </a:accent2>
      <a:accent3>
        <a:srgbClr val="a7ea52"/>
      </a:accent3>
      <a:accent4>
        <a:srgbClr val="5dceaf"/>
      </a:accent4>
      <a:accent5>
        <a:srgbClr val="ff8021"/>
      </a:accent5>
      <a:accent6>
        <a:srgbClr val="f14124"/>
      </a:accent6>
      <a:hlink>
        <a:srgbClr val="56c7aa"/>
      </a:hlink>
      <a:folHlink>
        <a:srgbClr val="59a8d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Solstice</Template>
  <TotalTime>1057</TotalTime>
  <Application>LibreOffice/7.4.7.2$Linux_X86_64 LibreOffice_project/40$Build-2</Application>
  <AppVersion>15.0000</AppVersion>
  <Words>1717</Words>
  <Paragraphs>245</Paragraphs>
  <Company>2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4T07:52:28Z</dcterms:created>
  <dc:creator>Елена</dc:creator>
  <dc:description/>
  <dc:language>en-US</dc:language>
  <cp:lastModifiedBy>almaz-2017</cp:lastModifiedBy>
  <dcterms:modified xsi:type="dcterms:W3CDTF">2024-04-15T13:13:08Z</dcterms:modified>
  <cp:revision>9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Экран (4:3)</vt:lpwstr>
  </property>
  <property fmtid="{D5CDD505-2E9C-101B-9397-08002B2CF9AE}" pid="4" name="Slides">
    <vt:r8>34</vt:r8>
  </property>
</Properties>
</file>