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6.gif" ContentType="image/gif"/>
  <Override PartName="/ppt/media/image4.jpeg" ContentType="image/jpeg"/>
  <Override PartName="/ppt/media/image13.gif" ContentType="image/gif"/>
  <Override PartName="/ppt/media/image17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8.gif" ContentType="image/gif"/>
  <Override PartName="/ppt/media/image18.jpeg" ContentType="image/jpeg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F1E-D8D3-4F8D-8BF5-96F2649D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3EE-11F9-43BF-BC21-62055D8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E38-B062-4DAD-B3E9-57303AC0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028-5D06-4A2E-A0F7-77A2BE24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B40-CC72-4E3C-935E-5A6DABEF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6A34-4F3F-429C-BB2E-28738CE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5D01-A16B-4C10-8B57-66FDE78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038-44D3-4E56-A10D-5E5D373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E42C-E52A-4216-850D-A9A9E1F3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719-B6B1-44A9-81A4-0F489F9D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297-46D6-4A48-A201-05EDD02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249-59B8-45DE-9365-5097FE8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6699-396B-4736-9F0A-5D63EBB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A096-81F4-462F-BC03-F009DE2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D742-A7A3-449F-A05D-5AAE496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EF3-3ECE-4738-B693-E5F3C7A9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0B4A-101C-4E9C-B655-3668B575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10C-4D24-4C97-BCFF-7ECC9CA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9A0-28C2-405A-8AF9-82135282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89A-6D2B-4BD7-9C63-6E643035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FE8-DCAE-4BDF-985C-9C8C6C2F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5B0-3EA6-452B-8EBE-6AC9FD7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93A-FFDB-42DA-AAC7-098E95FC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73A-FBDF-4E4A-82C2-0B8339A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CAE-35BF-4937-8FF7-BB3670C1F2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4e7e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458-F0DB-4F36-9CF0-CA42ABE57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4.gif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6"/>
          <p:cNvSpPr txBox="1"/>
          <p:nvPr/>
        </p:nvSpPr>
        <p:spPr>
          <a:xfrm>
            <a:off x="1905120" y="2286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Геометрия,7 класс,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Урок изучения нового материала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99" name="WordArt 7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2971800" y="3886200"/>
            <a:ext cx="356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Равнобедренный треугольник 7"/>
          <p:cNvSpPr/>
          <p:nvPr/>
        </p:nvSpPr>
        <p:spPr>
          <a:xfrm rot="10800000">
            <a:off x="-360" y="151920"/>
            <a:ext cx="2057400" cy="16765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8"/>
          <p:cNvSpPr/>
          <p:nvPr/>
        </p:nvSpPr>
        <p:spPr>
          <a:xfrm rot="18152400">
            <a:off x="6959160" y="-295200"/>
            <a:ext cx="1974960" cy="158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внобедренный треугольник 9"/>
          <p:cNvSpPr/>
          <p:nvPr/>
        </p:nvSpPr>
        <p:spPr>
          <a:xfrm rot="8250000">
            <a:off x="6058800" y="3528720"/>
            <a:ext cx="3833640" cy="1552680"/>
          </a:xfrm>
          <a:prstGeom prst="triangle">
            <a:avLst>
              <a:gd name="adj" fmla="val 50000"/>
            </a:avLst>
          </a:prstGeom>
          <a:solidFill>
            <a:srgbClr val="33cc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10"/>
          <p:cNvSpPr/>
          <p:nvPr/>
        </p:nvSpPr>
        <p:spPr>
          <a:xfrm rot="21068400">
            <a:off x="417600" y="2369880"/>
            <a:ext cx="2286000" cy="26352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572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∆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оведём через вершину В 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.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(………углы при 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. и секущей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 (………углы при 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. и секущей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=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разуют ……уго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из (2), (3), (4) получаем:       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…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С =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55640" y="1341360"/>
            <a:ext cx="3097080" cy="4248360"/>
          </a:xfrm>
          <a:prstGeom prst="triangle">
            <a:avLst>
              <a:gd name="adj" fmla="val 82259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179280" y="5587560"/>
            <a:ext cx="475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50920" y="1341360"/>
            <a:ext cx="464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004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42940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91788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27276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53000" y="8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10429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320364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42847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974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362040" y="51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:</a:t>
            </a: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мма углов треугольника равна 18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00168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5585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3422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61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385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5720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∆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) Проведём через вершину В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(накрест лежащие углы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 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 (накрест лежащие углы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 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зую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ёрнутый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из (2), (3), (4) получаем: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55640" y="1341360"/>
            <a:ext cx="3097080" cy="4248360"/>
          </a:xfrm>
          <a:prstGeom prst="triangle">
            <a:avLst>
              <a:gd name="adj" fmla="val 82259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V="1">
            <a:off x="179280" y="5587560"/>
            <a:ext cx="475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50920" y="1341360"/>
            <a:ext cx="464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004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2940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91788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27276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53000" y="8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0429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320364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42847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974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3362040" y="51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:</a:t>
            </a: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мма углов треугольника равна 18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00168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5585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422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61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385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990720" y="914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доказательство было дано еще Пифагором (5 в. до н.э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670720" y="380880"/>
            <a:ext cx="2990520" cy="30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460_687980931"/>
          <p:cNvPicPr/>
          <p:nvPr/>
        </p:nvPicPr>
        <p:blipFill>
          <a:blip r:embed="rId2"/>
          <a:stretch/>
        </p:blipFill>
        <p:spPr>
          <a:xfrm>
            <a:off x="950760" y="3301920"/>
            <a:ext cx="285912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886200" y="472428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книге «Начала» Евклид излагает другое доказательство теоремы о сумме углов треуголь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17"/>
          <p:cNvSpPr/>
          <p:nvPr/>
        </p:nvSpPr>
        <p:spPr>
          <a:xfrm>
            <a:off x="838080" y="685800"/>
            <a:ext cx="2895840" cy="1600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286000" y="685800"/>
            <a:ext cx="1905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20"/>
          <p:cNvSpPr txBox="1"/>
          <p:nvPr/>
        </p:nvSpPr>
        <p:spPr>
          <a:xfrm>
            <a:off x="762120" y="23623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WordArt 21"/>
          <p:cNvSpPr txBox="1"/>
          <p:nvPr/>
        </p:nvSpPr>
        <p:spPr>
          <a:xfrm>
            <a:off x="2133720" y="380880"/>
            <a:ext cx="2286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WordArt 22"/>
          <p:cNvSpPr txBox="1"/>
          <p:nvPr/>
        </p:nvSpPr>
        <p:spPr>
          <a:xfrm>
            <a:off x="3657600" y="23623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WordArt 24"/>
          <p:cNvSpPr txBox="1"/>
          <p:nvPr/>
        </p:nvSpPr>
        <p:spPr>
          <a:xfrm>
            <a:off x="990720" y="2133720"/>
            <a:ext cx="759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4" name="WordArt 25"/>
          <p:cNvSpPr txBox="1"/>
          <p:nvPr/>
        </p:nvSpPr>
        <p:spPr>
          <a:xfrm>
            <a:off x="2209680" y="762120"/>
            <a:ext cx="13680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5" name="WordArt 26"/>
          <p:cNvSpPr txBox="1"/>
          <p:nvPr/>
        </p:nvSpPr>
        <p:spPr>
          <a:xfrm>
            <a:off x="3352680" y="2057400"/>
            <a:ext cx="10476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WordArt 27"/>
          <p:cNvSpPr txBox="1"/>
          <p:nvPr/>
        </p:nvSpPr>
        <p:spPr>
          <a:xfrm>
            <a:off x="2514600" y="762120"/>
            <a:ext cx="1047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7" name="WordArt 22"/>
          <p:cNvSpPr txBox="1"/>
          <p:nvPr/>
        </p:nvSpPr>
        <p:spPr>
          <a:xfrm>
            <a:off x="4191120" y="457200"/>
            <a:ext cx="304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8" name="Прямоугольник 13"/>
          <p:cNvSpPr/>
          <p:nvPr/>
        </p:nvSpPr>
        <p:spPr>
          <a:xfrm>
            <a:off x="4151160" y="0"/>
            <a:ext cx="5307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оказательство Евкл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 Black"/>
              </a:rPr>
              <a:t>С комментариями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Найдите углы треугольников</a:t>
            </a:r>
            <a:endParaRPr b="1" lang="en-US" sz="32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50" name="Равнобедренный треугольник 3"/>
          <p:cNvSpPr/>
          <p:nvPr/>
        </p:nvSpPr>
        <p:spPr>
          <a:xfrm>
            <a:off x="714240" y="1928880"/>
            <a:ext cx="7358040" cy="3036960"/>
          </a:xfrm>
          <a:prstGeom prst="triangle">
            <a:avLst>
              <a:gd name="adj" fmla="val 90250"/>
            </a:avLst>
          </a:prstGeom>
          <a:solidFill>
            <a:srgbClr val="b83d68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357960" y="214308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0" y="435780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714680" y="42861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7143840" y="13572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-14292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785808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857680" y="53578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=3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Группа 14"/>
          <p:cNvGrpSpPr/>
          <p:nvPr/>
        </p:nvGrpSpPr>
        <p:grpSpPr>
          <a:xfrm>
            <a:off x="3071880" y="5572080"/>
            <a:ext cx="428400" cy="285840"/>
            <a:chOff x="3071880" y="5572080"/>
            <a:chExt cx="428400" cy="285840"/>
          </a:xfrm>
        </p:grpSpPr>
        <p:sp>
          <p:nvSpPr>
            <p:cNvPr id="259" name="Прямая соединительная линия 11"/>
            <p:cNvSpPr/>
            <p:nvPr/>
          </p:nvSpPr>
          <p:spPr>
            <a:xfrm flipH="1">
              <a:off x="3071880" y="5572080"/>
              <a:ext cx="38088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3"/>
            <p:cNvSpPr/>
            <p:nvPr/>
          </p:nvSpPr>
          <p:spPr>
            <a:xfrm>
              <a:off x="3071880" y="5856840"/>
              <a:ext cx="428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4"/>
          <p:cNvSpPr/>
          <p:nvPr/>
        </p:nvSpPr>
        <p:spPr>
          <a:xfrm>
            <a:off x="457200" y="533520"/>
            <a:ext cx="8305920" cy="571500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2809800" y="2514600"/>
            <a:ext cx="390600" cy="2253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5934240" y="2514600"/>
            <a:ext cx="390240" cy="2253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1066680" y="5224320"/>
            <a:ext cx="8496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4191120" y="1143000"/>
            <a:ext cx="8492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495680" y="6095880"/>
            <a:ext cx="0" cy="381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3733920" y="914400"/>
                <a:ext cx="1601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6"/>
              <p:cNvSpPr txBox="1"/>
              <p:nvPr/>
            </p:nvSpPr>
            <p:spPr>
              <a:xfrm>
                <a:off x="836640" y="5029200"/>
                <a:ext cx="1601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9" name="WordArt 18"/>
          <p:cNvSpPr txBox="1"/>
          <p:nvPr/>
        </p:nvSpPr>
        <p:spPr>
          <a:xfrm>
            <a:off x="7161120" y="5257800"/>
            <a:ext cx="8492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9"/>
              <p:cNvSpPr txBox="1"/>
              <p:nvPr/>
            </p:nvSpPr>
            <p:spPr>
              <a:xfrm>
                <a:off x="6703920" y="5029200"/>
                <a:ext cx="16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133720" y="380880"/>
            <a:ext cx="5638680" cy="5562720"/>
          </a:xfrm>
          <a:prstGeom prst="rtTriangle">
            <a:avLst/>
          </a:prstGeom>
          <a:solidFill>
            <a:srgbClr val="66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2133720" y="5486400"/>
            <a:ext cx="457200" cy="457200"/>
            <a:chOff x="2133720" y="5486400"/>
            <a:chExt cx="457200" cy="457200"/>
          </a:xfrm>
        </p:grpSpPr>
        <p:sp>
          <p:nvSpPr>
            <p:cNvPr id="273" name="Line 7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V="1">
              <a:off x="2590920" y="54864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2133720" y="121932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WordArt 11"/>
          <p:cNvSpPr txBox="1"/>
          <p:nvPr/>
        </p:nvSpPr>
        <p:spPr>
          <a:xfrm>
            <a:off x="220968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7" name="WordArt 11"/>
          <p:cNvSpPr txBox="1"/>
          <p:nvPr/>
        </p:nvSpPr>
        <p:spPr>
          <a:xfrm>
            <a:off x="6248520" y="50292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905120" y="3352680"/>
            <a:ext cx="4572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 flipV="1">
            <a:off x="4419720" y="5715000"/>
            <a:ext cx="0" cy="4572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1"/>
              <p:cNvSpPr txBox="1"/>
              <p:nvPr/>
            </p:nvSpPr>
            <p:spPr>
              <a:xfrm>
                <a:off x="5715000" y="495288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133720" y="380880"/>
            <a:ext cx="5638680" cy="5562720"/>
          </a:xfrm>
          <a:prstGeom prst="rtTriangle">
            <a:avLst/>
          </a:prstGeom>
          <a:solidFill>
            <a:srgbClr val="66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"/>
          <p:cNvGrpSpPr/>
          <p:nvPr/>
        </p:nvGrpSpPr>
        <p:grpSpPr>
          <a:xfrm>
            <a:off x="2133720" y="5486400"/>
            <a:ext cx="457200" cy="457200"/>
            <a:chOff x="2133720" y="5486400"/>
            <a:chExt cx="457200" cy="457200"/>
          </a:xfrm>
        </p:grpSpPr>
        <p:sp>
          <p:nvSpPr>
            <p:cNvPr id="283" name="Line 7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 flipV="1">
              <a:off x="2590920" y="54864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670720" y="4876920"/>
                <a:ext cx="118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2"/>
              <p:cNvSpPr txBox="1"/>
              <p:nvPr/>
            </p:nvSpPr>
            <p:spPr>
              <a:xfrm>
                <a:off x="2057400" y="106668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WordArt 11"/>
          <p:cNvSpPr txBox="1"/>
          <p:nvPr/>
        </p:nvSpPr>
        <p:spPr>
          <a:xfrm>
            <a:off x="220968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4"/>
          <p:cNvSpPr/>
          <p:nvPr/>
        </p:nvSpPr>
        <p:spPr>
          <a:xfrm>
            <a:off x="1447920" y="533520"/>
            <a:ext cx="6476760" cy="57909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335268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>
            <a:off x="571464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7"/>
              <p:cNvSpPr txBox="1"/>
              <p:nvPr/>
            </p:nvSpPr>
            <p:spPr>
              <a:xfrm>
                <a:off x="4114800" y="1219320"/>
                <a:ext cx="118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WordArt 9"/>
          <p:cNvSpPr txBox="1"/>
          <p:nvPr/>
        </p:nvSpPr>
        <p:spPr>
          <a:xfrm>
            <a:off x="2057400" y="522432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6576840" y="522432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9"/>
              <p:cNvSpPr txBox="1"/>
              <p:nvPr/>
            </p:nvSpPr>
            <p:spPr>
              <a:xfrm>
                <a:off x="6326280" y="5181480"/>
                <a:ext cx="1185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0"/>
              <p:cNvSpPr txBox="1"/>
              <p:nvPr/>
            </p:nvSpPr>
            <p:spPr>
              <a:xfrm>
                <a:off x="1785960" y="5181480"/>
                <a:ext cx="1185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>
            <a:off x="1447920" y="533520"/>
            <a:ext cx="6476760" cy="57909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335268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 flipH="1">
            <a:off x="571464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6173640" y="5248440"/>
                <a:ext cx="1249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1951200" y="5248440"/>
                <a:ext cx="1249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WordArt 10"/>
          <p:cNvSpPr txBox="1"/>
          <p:nvPr/>
        </p:nvSpPr>
        <p:spPr>
          <a:xfrm>
            <a:off x="436716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4038480" y="1143000"/>
                <a:ext cx="1249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28600" y="1066680"/>
            <a:ext cx="8839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ите треугольник АВС  на вашей кар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змерьте градусные меры  ˪А, ˪В, ˪С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шите в тетрадь э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сумму углов А, В, 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Группа 25"/>
          <p:cNvGrpSpPr/>
          <p:nvPr/>
        </p:nvGrpSpPr>
        <p:grpSpPr>
          <a:xfrm>
            <a:off x="500040" y="344520"/>
            <a:ext cx="7643160" cy="5358240"/>
            <a:chOff x="500040" y="344520"/>
            <a:chExt cx="7643160" cy="5358240"/>
          </a:xfrm>
        </p:grpSpPr>
        <p:sp>
          <p:nvSpPr>
            <p:cNvPr id="304" name="TextBox 15"/>
            <p:cNvSpPr/>
            <p:nvPr/>
          </p:nvSpPr>
          <p:spPr>
            <a:xfrm>
              <a:off x="500040" y="34452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Группа 24"/>
            <p:cNvGrpSpPr/>
            <p:nvPr/>
          </p:nvGrpSpPr>
          <p:grpSpPr>
            <a:xfrm>
              <a:off x="500040" y="701640"/>
              <a:ext cx="7643160" cy="5001120"/>
              <a:chOff x="500040" y="701640"/>
              <a:chExt cx="7643160" cy="5001120"/>
            </a:xfrm>
          </p:grpSpPr>
          <p:grpSp>
            <p:nvGrpSpPr>
              <p:cNvPr id="306" name="Группа 11"/>
              <p:cNvGrpSpPr/>
              <p:nvPr/>
            </p:nvGrpSpPr>
            <p:grpSpPr>
              <a:xfrm>
                <a:off x="1285560" y="701640"/>
                <a:ext cx="6857640" cy="5001120"/>
                <a:chOff x="1285560" y="701640"/>
                <a:chExt cx="6857640" cy="5001120"/>
              </a:xfrm>
            </p:grpSpPr>
            <p:sp>
              <p:nvSpPr>
                <p:cNvPr id="307" name="Прямоугольный треугольник 1"/>
                <p:cNvSpPr/>
                <p:nvPr/>
              </p:nvSpPr>
              <p:spPr>
                <a:xfrm>
                  <a:off x="1285560" y="701640"/>
                  <a:ext cx="5361480" cy="4456800"/>
                </a:xfrm>
                <a:prstGeom prst="rtTriangle">
                  <a:avLst/>
                </a:prstGeom>
                <a:solidFill>
                  <a:srgbClr val="b83d68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3"/>
                <p:cNvSpPr/>
                <p:nvPr/>
              </p:nvSpPr>
              <p:spPr>
                <a:xfrm>
                  <a:off x="6647400" y="5158080"/>
                  <a:ext cx="1495800" cy="2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Дуга 4"/>
                <p:cNvSpPr/>
                <p:nvPr/>
              </p:nvSpPr>
              <p:spPr>
                <a:xfrm>
                  <a:off x="5649840" y="4416840"/>
                  <a:ext cx="1994040" cy="1285920"/>
                </a:xfrm>
                <a:custGeom>
                  <a:avLst/>
                  <a:gdLst/>
                  <a:ahLst/>
                  <a:rect l="l" t="t" r="r" b="b"/>
                  <a:pathLst>
                    <a:path stroke="0" w="1142577" h="845043">
                      <a:moveTo>
                        <a:pt x="160998" y="128509"/>
                      </a:moveTo>
                      <a:cubicBezTo>
                        <a:pt x="303713" y="19570"/>
                        <a:pt x="514434" y="-24429"/>
                        <a:pt x="713108" y="13226"/>
                      </a:cubicBezTo>
                      <a:cubicBezTo>
                        <a:pt x="978524" y="63531"/>
                        <a:pt x="1158277" y="246118"/>
                        <a:pt x="1141507" y="448382"/>
                      </a:cubicBezTo>
                      <a:lnTo>
                        <a:pt x="571289" y="422522"/>
                      </a:lnTo>
                      <a:lnTo>
                        <a:pt x="160998" y="128509"/>
                      </a:lnTo>
                      <a:close/>
                    </a:path>
                    <a:path fill="none" w="1142577" h="845043">
                      <a:moveTo>
                        <a:pt x="160998" y="128509"/>
                      </a:moveTo>
                      <a:cubicBezTo>
                        <a:pt x="303713" y="19570"/>
                        <a:pt x="514434" y="-24429"/>
                        <a:pt x="713108" y="13226"/>
                      </a:cubicBezTo>
                      <a:cubicBezTo>
                        <a:pt x="978524" y="63531"/>
                        <a:pt x="1158277" y="246118"/>
                        <a:pt x="1141507" y="448382"/>
                      </a:cubicBezTo>
                    </a:path>
                  </a:pathLst>
                </a:custGeom>
                <a:solidFill>
                  <a:srgbClr val="b83d68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Прямая соединительная линия 6"/>
                <p:cNvSpPr/>
                <p:nvPr/>
              </p:nvSpPr>
              <p:spPr>
                <a:xfrm>
                  <a:off x="1285560" y="4615560"/>
                  <a:ext cx="49860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Прямая соединительная линия 8"/>
                <p:cNvSpPr/>
                <p:nvPr/>
              </p:nvSpPr>
              <p:spPr>
                <a:xfrm flipH="1">
                  <a:off x="1783800" y="4616640"/>
                  <a:ext cx="1080" cy="54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Box 10"/>
                <p:cNvSpPr/>
                <p:nvPr/>
              </p:nvSpPr>
              <p:spPr>
                <a:xfrm>
                  <a:off x="5183280" y="3637080"/>
                  <a:ext cx="21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130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Box 12"/>
              <p:cNvSpPr/>
              <p:nvPr/>
            </p:nvSpPr>
            <p:spPr>
              <a:xfrm>
                <a:off x="5143680" y="441648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3"/>
              <p:cNvSpPr/>
              <p:nvPr/>
            </p:nvSpPr>
            <p:spPr>
              <a:xfrm>
                <a:off x="1071360" y="98712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14"/>
              <p:cNvSpPr/>
              <p:nvPr/>
            </p:nvSpPr>
            <p:spPr>
              <a:xfrm>
                <a:off x="500040" y="470232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16"/>
              <p:cNvSpPr/>
              <p:nvPr/>
            </p:nvSpPr>
            <p:spPr>
              <a:xfrm>
                <a:off x="6215040" y="505980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Группа 15"/>
          <p:cNvGrpSpPr/>
          <p:nvPr/>
        </p:nvGrpSpPr>
        <p:grpSpPr>
          <a:xfrm>
            <a:off x="2642760" y="5572080"/>
            <a:ext cx="429120" cy="285840"/>
            <a:chOff x="2642760" y="5572080"/>
            <a:chExt cx="429120" cy="285840"/>
          </a:xfrm>
        </p:grpSpPr>
        <p:sp>
          <p:nvSpPr>
            <p:cNvPr id="318" name="Прямая соединительная линия 16"/>
            <p:cNvSpPr/>
            <p:nvPr/>
          </p:nvSpPr>
          <p:spPr>
            <a:xfrm flipH="1">
              <a:off x="2642760" y="5572080"/>
              <a:ext cx="3812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ая соединительная линия 17"/>
            <p:cNvSpPr/>
            <p:nvPr/>
          </p:nvSpPr>
          <p:spPr>
            <a:xfrm>
              <a:off x="2643120" y="5856840"/>
              <a:ext cx="428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Прямоугольник 18"/>
          <p:cNvSpPr/>
          <p:nvPr/>
        </p:nvSpPr>
        <p:spPr>
          <a:xfrm>
            <a:off x="3079440" y="542916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=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9"/>
          <p:cNvSpPr/>
          <p:nvPr/>
        </p:nvSpPr>
        <p:spPr>
          <a:xfrm>
            <a:off x="5436720" y="54291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=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20"/>
          <p:cNvGrpSpPr/>
          <p:nvPr/>
        </p:nvGrpSpPr>
        <p:grpSpPr>
          <a:xfrm>
            <a:off x="4928760" y="5572080"/>
            <a:ext cx="429120" cy="285840"/>
            <a:chOff x="4928760" y="5572080"/>
            <a:chExt cx="429120" cy="285840"/>
          </a:xfrm>
        </p:grpSpPr>
        <p:sp>
          <p:nvSpPr>
            <p:cNvPr id="323" name="Прямая соединительная линия 21"/>
            <p:cNvSpPr/>
            <p:nvPr/>
          </p:nvSpPr>
          <p:spPr>
            <a:xfrm flipH="1">
              <a:off x="4928760" y="5572080"/>
              <a:ext cx="3812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2"/>
            <p:cNvSpPr/>
            <p:nvPr/>
          </p:nvSpPr>
          <p:spPr>
            <a:xfrm>
              <a:off x="4929120" y="5856840"/>
              <a:ext cx="428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Arial Black"/>
              </a:rPr>
              <a:t>Ответы к тесту - достижений:</a:t>
            </a:r>
            <a:endParaRPr b="1" lang="en-US" sz="40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178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09720" y="1828800"/>
            <a:ext cx="302436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4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те тему урока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, если вам всё понятно, и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спытываете затруднения.</a:t>
            </a:r>
            <a:br>
              <a:rPr sz="40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676520" y="304920"/>
            <a:ext cx="5790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50000">
                      <a:srgbClr val="000000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Arial"/>
              </a:rPr>
              <a:t>Не забудь!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50000">
                    <a:srgbClr val="000000"/>
                  </a:gs>
                  <a:gs pos="100000">
                    <a:srgbClr val="d6009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14400" y="2438280"/>
            <a:ext cx="8077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.16,   №357,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№359,3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ля любящих геометр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азать теорему о сумме углов треугольника, используя чертеж Евклида (отправлю в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8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13f9a"/>
                </a:solidFill>
                <a:latin typeface="Arial Black"/>
              </a:rPr>
              <a:t>СПАСИБО </a:t>
            </a:r>
            <a:endParaRPr b="1" lang="en-US" sz="5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120" y="32763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ЗА  СОТРУДНИЧЕСТВ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1455840" y="1143000"/>
            <a:ext cx="62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809640" cy="638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2305080" y="380880"/>
            <a:ext cx="43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6705720" y="419040"/>
            <a:ext cx="609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685800" y="1828800"/>
            <a:ext cx="3581280" cy="2666880"/>
          </a:xfrm>
          <a:prstGeom prst="triangle">
            <a:avLst>
              <a:gd name="adj" fmla="val 309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200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76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648320" y="1905120"/>
            <a:ext cx="3581280" cy="2666880"/>
          </a:xfrm>
          <a:prstGeom prst="triangle">
            <a:avLst>
              <a:gd name="adj" fmla="val 30940"/>
            </a:avLst>
          </a:prstGeom>
          <a:solidFill>
            <a:srgbClr val="ff7c8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25780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238880" y="403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876920" y="4038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63868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3"/>
          <p:cNvSpPr/>
          <p:nvPr/>
        </p:nvSpPr>
        <p:spPr>
          <a:xfrm flipH="1">
            <a:off x="2819160" y="3581280"/>
            <a:ext cx="609480" cy="91440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6"/>
          <p:cNvSpPr/>
          <p:nvPr/>
        </p:nvSpPr>
        <p:spPr>
          <a:xfrm>
            <a:off x="1143000" y="3352680"/>
            <a:ext cx="457200" cy="114300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800280" y="304920"/>
            <a:ext cx="6972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ьте углы треугольни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5257800" y="3200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6934320" y="3200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19"/>
          <p:cNvSpPr/>
          <p:nvPr/>
        </p:nvSpPr>
        <p:spPr>
          <a:xfrm>
            <a:off x="609480" y="4267080"/>
            <a:ext cx="38124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уга 20"/>
          <p:cNvSpPr/>
          <p:nvPr/>
        </p:nvSpPr>
        <p:spPr>
          <a:xfrm>
            <a:off x="4572000" y="4343400"/>
            <a:ext cx="38088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уга 21"/>
          <p:cNvSpPr/>
          <p:nvPr/>
        </p:nvSpPr>
        <p:spPr>
          <a:xfrm rot="7236600">
            <a:off x="5546520" y="1709280"/>
            <a:ext cx="38088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уга 22"/>
          <p:cNvSpPr/>
          <p:nvPr/>
        </p:nvSpPr>
        <p:spPr>
          <a:xfrm rot="7236600">
            <a:off x="1584000" y="1633320"/>
            <a:ext cx="38124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23"/>
          <p:cNvSpPr/>
          <p:nvPr/>
        </p:nvSpPr>
        <p:spPr>
          <a:xfrm rot="7236600">
            <a:off x="1582920" y="1675080"/>
            <a:ext cx="527040" cy="614520"/>
          </a:xfrm>
          <a:custGeom>
            <a:avLst/>
            <a:gdLst/>
            <a:ahLst/>
            <a:rect l="l" t="t" r="r" b="b"/>
            <a:pathLst>
              <a:path stroke="0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  <a:lnTo>
                  <a:pt x="263525" y="307182"/>
                </a:lnTo>
                <a:lnTo>
                  <a:pt x="302928" y="3453"/>
                </a:lnTo>
                <a:close/>
              </a:path>
              <a:path fill="none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24"/>
          <p:cNvSpPr/>
          <p:nvPr/>
        </p:nvSpPr>
        <p:spPr>
          <a:xfrm rot="7236600">
            <a:off x="5545440" y="1675080"/>
            <a:ext cx="527040" cy="614520"/>
          </a:xfrm>
          <a:custGeom>
            <a:avLst/>
            <a:gdLst/>
            <a:ahLst/>
            <a:rect l="l" t="t" r="r" b="b"/>
            <a:pathLst>
              <a:path stroke="0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  <a:lnTo>
                  <a:pt x="263525" y="307182"/>
                </a:lnTo>
                <a:lnTo>
                  <a:pt x="302928" y="3453"/>
                </a:lnTo>
                <a:close/>
              </a:path>
              <a:path fill="none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уга 25"/>
          <p:cNvSpPr/>
          <p:nvPr/>
        </p:nvSpPr>
        <p:spPr>
          <a:xfrm rot="13526400">
            <a:off x="7802280" y="4115880"/>
            <a:ext cx="460440" cy="574560"/>
          </a:xfrm>
          <a:custGeom>
            <a:avLst/>
            <a:gdLst/>
            <a:ahLst/>
            <a:rect l="l" t="t" r="r" b="b"/>
            <a:pathLst>
              <a:path stroke="0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  <a:lnTo>
                  <a:pt x="230188" y="287338"/>
                </a:lnTo>
                <a:lnTo>
                  <a:pt x="266985" y="3695"/>
                </a:lnTo>
                <a:close/>
              </a:path>
              <a:path fill="none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26"/>
          <p:cNvSpPr/>
          <p:nvPr/>
        </p:nvSpPr>
        <p:spPr>
          <a:xfrm rot="13526400">
            <a:off x="7916040" y="4200840"/>
            <a:ext cx="50148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  <a:lnTo>
                  <a:pt x="250825" y="307181"/>
                </a:lnTo>
                <a:lnTo>
                  <a:pt x="395884" y="56582"/>
                </a:lnTo>
                <a:close/>
              </a:path>
              <a:path fill="none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Дуга 27"/>
          <p:cNvSpPr/>
          <p:nvPr/>
        </p:nvSpPr>
        <p:spPr>
          <a:xfrm rot="13526400">
            <a:off x="7992000" y="4276800"/>
            <a:ext cx="501480" cy="61452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  <a:lnTo>
                  <a:pt x="250825" y="307181"/>
                </a:lnTo>
                <a:lnTo>
                  <a:pt x="436402" y="100524"/>
                </a:lnTo>
                <a:close/>
              </a:path>
              <a:path fill="none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Дуга 28"/>
          <p:cNvSpPr/>
          <p:nvPr/>
        </p:nvSpPr>
        <p:spPr>
          <a:xfrm rot="13526400">
            <a:off x="4029840" y="4200840"/>
            <a:ext cx="50148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  <a:lnTo>
                  <a:pt x="250825" y="307181"/>
                </a:lnTo>
                <a:lnTo>
                  <a:pt x="436402" y="100524"/>
                </a:lnTo>
                <a:close/>
              </a:path>
              <a:path fill="none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уга 29"/>
          <p:cNvSpPr/>
          <p:nvPr/>
        </p:nvSpPr>
        <p:spPr>
          <a:xfrm rot="13526400">
            <a:off x="3953160" y="4124880"/>
            <a:ext cx="50184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  <a:lnTo>
                  <a:pt x="250825" y="307181"/>
                </a:lnTo>
                <a:lnTo>
                  <a:pt x="395884" y="56582"/>
                </a:lnTo>
                <a:close/>
              </a:path>
              <a:path fill="none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уга 30"/>
          <p:cNvSpPr/>
          <p:nvPr/>
        </p:nvSpPr>
        <p:spPr>
          <a:xfrm rot="13526400">
            <a:off x="3868560" y="4039560"/>
            <a:ext cx="460440" cy="574560"/>
          </a:xfrm>
          <a:custGeom>
            <a:avLst/>
            <a:gdLst/>
            <a:ahLst/>
            <a:rect l="l" t="t" r="r" b="b"/>
            <a:pathLst>
              <a:path stroke="0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  <a:lnTo>
                  <a:pt x="230188" y="287338"/>
                </a:lnTo>
                <a:lnTo>
                  <a:pt x="266985" y="3695"/>
                </a:lnTo>
                <a:close/>
              </a:path>
              <a:path fill="none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3"/>
          <p:cNvGrpSpPr/>
          <p:nvPr/>
        </p:nvGrpSpPr>
        <p:grpSpPr>
          <a:xfrm>
            <a:off x="969480" y="1295280"/>
            <a:ext cx="3068640" cy="3285360"/>
            <a:chOff x="969480" y="1295280"/>
            <a:chExt cx="3068640" cy="3285360"/>
          </a:xfrm>
        </p:grpSpPr>
        <p:grpSp>
          <p:nvGrpSpPr>
            <p:cNvPr id="138" name="Group 24"/>
            <p:cNvGrpSpPr/>
            <p:nvPr/>
          </p:nvGrpSpPr>
          <p:grpSpPr>
            <a:xfrm>
              <a:off x="1123200" y="1482840"/>
              <a:ext cx="2899080" cy="3097800"/>
              <a:chOff x="1123200" y="1482840"/>
              <a:chExt cx="2899080" cy="3097800"/>
            </a:xfrm>
          </p:grpSpPr>
          <p:sp>
            <p:nvSpPr>
              <p:cNvPr id="139" name="AutoShape 2"/>
              <p:cNvSpPr/>
              <p:nvPr/>
            </p:nvSpPr>
            <p:spPr>
              <a:xfrm>
                <a:off x="1123200" y="1482840"/>
                <a:ext cx="2899080" cy="2035800"/>
              </a:xfrm>
              <a:prstGeom prst="triangle">
                <a:avLst>
                  <a:gd name="adj" fmla="val 3172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23"/>
              <p:cNvSpPr/>
              <p:nvPr/>
            </p:nvSpPr>
            <p:spPr>
              <a:xfrm>
                <a:off x="1123200" y="3518640"/>
                <a:ext cx="2899080" cy="1062000"/>
              </a:xfrm>
              <a:custGeom>
                <a:avLst/>
                <a:gdLst>
                  <a:gd name="textAreaLeft" fmla="*/ 603720 w 2899080"/>
                  <a:gd name="textAreaRight" fmla="*/ 2295360 w 2899080"/>
                  <a:gd name="textAreaTop" fmla="*/ 221040 h 1062000"/>
                  <a:gd name="textAreaBottom" fmla="*/ 840960 h 10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AutoShape 30"/>
            <p:cNvSpPr/>
            <p:nvPr/>
          </p:nvSpPr>
          <p:spPr>
            <a:xfrm flipH="1" rot="10623600">
              <a:off x="989640" y="1471680"/>
              <a:ext cx="2246760" cy="857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 flipH="1">
              <a:off x="1142280" y="1461240"/>
              <a:ext cx="970200" cy="20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2056680" y="1448280"/>
              <a:ext cx="1981440" cy="20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206440" y="129528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1925640" y="163800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"/>
            <p:cNvSpPr/>
            <p:nvPr/>
          </p:nvSpPr>
          <p:spPr>
            <a:xfrm>
              <a:off x="1598760" y="1372320"/>
              <a:ext cx="6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3"/>
          <p:cNvSpPr/>
          <p:nvPr/>
        </p:nvSpPr>
        <p:spPr>
          <a:xfrm>
            <a:off x="4876920" y="1600200"/>
            <a:ext cx="3124080" cy="2819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 flipH="1">
            <a:off x="6019560" y="1600200"/>
            <a:ext cx="19810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952880" y="1600200"/>
            <a:ext cx="106704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4008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86728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1008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 flipH="1">
            <a:off x="3276720" y="3505320"/>
            <a:ext cx="761760" cy="106668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3"/>
          <p:cNvSpPr/>
          <p:nvPr/>
        </p:nvSpPr>
        <p:spPr>
          <a:xfrm>
            <a:off x="1122480" y="3519360"/>
            <a:ext cx="706320" cy="105264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9487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ая соединительная линия 2"/>
          <p:cNvSpPr/>
          <p:nvPr/>
        </p:nvSpPr>
        <p:spPr>
          <a:xfrm>
            <a:off x="914400" y="2895480"/>
            <a:ext cx="3505320" cy="53352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"/>
          <p:cNvSpPr/>
          <p:nvPr/>
        </p:nvSpPr>
        <p:spPr>
          <a:xfrm flipV="1">
            <a:off x="2743200" y="3428640"/>
            <a:ext cx="1676520" cy="15228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8"/>
          <p:cNvSpPr/>
          <p:nvPr/>
        </p:nvSpPr>
        <p:spPr>
          <a:xfrm>
            <a:off x="914400" y="2895480"/>
            <a:ext cx="1828800" cy="68580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2514600" y="34290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4267080" y="327672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6858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685800" y="243828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онная физминутк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83d6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88" name="прин1843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3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91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200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21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24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45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3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2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gallery_2_392_1290"/>
          <p:cNvPicPr/>
          <p:nvPr/>
        </p:nvPicPr>
        <p:blipFill>
          <a:blip r:embed="rId1"/>
          <a:stretch/>
        </p:blipFill>
        <p:spPr>
          <a:xfrm>
            <a:off x="3348000" y="4292640"/>
            <a:ext cx="252108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maz-2017</dc:creator>
  <dc:description/>
  <dc:language>en-US</dc:language>
  <cp:lastModifiedBy>almaz-2017</cp:lastModifiedBy>
  <dcterms:modified xsi:type="dcterms:W3CDTF">2023-11-23T15:54:27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