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6.gif" ContentType="image/gif"/>
  <Override PartName="/ppt/media/image4.jpeg" ContentType="image/jpeg"/>
  <Override PartName="/ppt/media/image13.gif" ContentType="image/gif"/>
  <Override PartName="/ppt/media/image17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8.gif" ContentType="image/gif"/>
  <Override PartName="/ppt/media/image18.jpeg" ContentType="image/jpeg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467-758B-43B9-8818-5E43F808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DC4-FDAB-49AF-B463-920A3396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6AF-7B61-463C-83D3-99F49CFF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C90-E2C2-4B14-99C2-6282389D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75E-A2FA-49FB-86A2-597BD1A7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52E-F981-43B1-9473-33DE02CC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6322-0861-4D02-BB89-40EF9541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6E2F-AEDC-42FC-B557-7B58D42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9BA5-3524-4E72-BF3E-BED34FC1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849E-6FFB-4EFA-85D9-FB2581FB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3A1-38EA-450B-A623-9E416F6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8D4-766E-4E5A-A04C-30A913D2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8C02-8C34-421B-BB2D-396B3BF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3FEF-500B-4418-8971-9894184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3757-2A6F-4C51-9708-452F1761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1EF1-BE89-4808-95B7-16B14062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7A9E-4C1F-43F1-9DEF-F9C3523B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6C5-D44B-404F-8B63-615DC5B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940-086D-4327-994D-1AC6797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C8B-94D0-4ABD-8994-8761B5F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9F2-1112-4B9D-9944-9F7E73C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9E8-3AC7-4BE3-BA81-0625A29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54E-0782-4547-BCBF-24AB328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BE8-A299-400C-9E8D-AEE8841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7e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4e7e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0E3F-A932-48C3-B0FD-11DA72635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4e7e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e7e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e7ed">
                    <a:alpha val="0"/>
                  </a:srgbClr>
                </a:gs>
                <a:gs pos="100000">
                  <a:srgbClr val="c8bd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5eaef"/>
                </a:gs>
                <a:gs pos="100000">
                  <a:srgbClr val="f4e7e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6DDE-A24C-4F65-AC27-03BE29DAA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4.gif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6"/>
          <p:cNvSpPr txBox="1"/>
          <p:nvPr/>
        </p:nvSpPr>
        <p:spPr>
          <a:xfrm>
            <a:off x="1905120" y="2286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Геометрия,7 класс,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Урок изучения нового материала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99" name="WordArt 7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2971800" y="3886200"/>
            <a:ext cx="356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Равнобедренный треугольник 7"/>
          <p:cNvSpPr/>
          <p:nvPr/>
        </p:nvSpPr>
        <p:spPr>
          <a:xfrm rot="10800000">
            <a:off x="-360" y="151920"/>
            <a:ext cx="2057400" cy="16765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8"/>
          <p:cNvSpPr/>
          <p:nvPr/>
        </p:nvSpPr>
        <p:spPr>
          <a:xfrm rot="18152400">
            <a:off x="6959160" y="-295200"/>
            <a:ext cx="1974960" cy="158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авнобедренный треугольник 9"/>
          <p:cNvSpPr/>
          <p:nvPr/>
        </p:nvSpPr>
        <p:spPr>
          <a:xfrm rot="8250000">
            <a:off x="6058800" y="3528720"/>
            <a:ext cx="3833640" cy="1552680"/>
          </a:xfrm>
          <a:prstGeom prst="triangle">
            <a:avLst>
              <a:gd name="adj" fmla="val 50000"/>
            </a:avLst>
          </a:prstGeom>
          <a:solidFill>
            <a:srgbClr val="33cc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ый треугольник 10"/>
          <p:cNvSpPr/>
          <p:nvPr/>
        </p:nvSpPr>
        <p:spPr>
          <a:xfrm rot="21068400">
            <a:off x="417600" y="2369880"/>
            <a:ext cx="2286000" cy="26352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572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∆ 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ь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Проведём через вершину В 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….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(………углы при 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. и секущей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 (………углы при 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. и секущей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=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бразуют ……уго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из (2), (3), (4) получаем:       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…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С =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755640" y="1341360"/>
            <a:ext cx="3097080" cy="4248360"/>
          </a:xfrm>
          <a:prstGeom prst="triangle">
            <a:avLst>
              <a:gd name="adj" fmla="val 82259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179280" y="5587560"/>
            <a:ext cx="4754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250920" y="1341360"/>
            <a:ext cx="464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0040" y="566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42940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391788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327276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053000" y="8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10429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320364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42847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97452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362040" y="51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7928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:</a:t>
            </a:r>
            <a:r>
              <a:rPr b="0" lang="ru-RU" sz="24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мма углов треугольника равна 18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00168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255852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3422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61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385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692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5720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∆ 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ь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) Проведём через вершину В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(накрест лежащие углы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 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 (накрест лежащие углы п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екущей  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зую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ёрнутый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из (2), (3), (4) получаем: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+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=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В+</a:t>
            </a:r>
            <a:r>
              <a:rPr b="1" i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С =1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755640" y="1341360"/>
            <a:ext cx="3097080" cy="4248360"/>
          </a:xfrm>
          <a:prstGeom prst="triangle">
            <a:avLst>
              <a:gd name="adj" fmla="val 82259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V="1">
            <a:off x="179280" y="5587560"/>
            <a:ext cx="4754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50920" y="1341360"/>
            <a:ext cx="464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0040" y="566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2940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3917880" y="573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27276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053000" y="8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0429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320364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4284720" y="1268280"/>
            <a:ext cx="144360" cy="144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97452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3362040" y="51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7928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:</a:t>
            </a:r>
            <a:r>
              <a:rPr b="0" lang="ru-RU" sz="2400" spc="-1" strike="noStrike">
                <a:solidFill>
                  <a:srgbClr val="b13f9a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умма углов треугольника равна 18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00168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55852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422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61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3851280" y="5516640"/>
            <a:ext cx="144360" cy="1443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990720" y="914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доказательство было дано еще Пифагором (5 в. до н.э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670720" y="380880"/>
            <a:ext cx="2990520" cy="3048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460_687980931"/>
          <p:cNvPicPr/>
          <p:nvPr/>
        </p:nvPicPr>
        <p:blipFill>
          <a:blip r:embed="rId2"/>
          <a:stretch/>
        </p:blipFill>
        <p:spPr>
          <a:xfrm>
            <a:off x="950760" y="3301920"/>
            <a:ext cx="2859120" cy="33940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3886200" y="472428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книге «Начала» Евклид излагает другое доказательство теоремы о сумме углов треуголь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17"/>
          <p:cNvSpPr/>
          <p:nvPr/>
        </p:nvSpPr>
        <p:spPr>
          <a:xfrm>
            <a:off x="838080" y="685800"/>
            <a:ext cx="2895840" cy="1600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286000" y="685800"/>
            <a:ext cx="1905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20"/>
          <p:cNvSpPr txBox="1"/>
          <p:nvPr/>
        </p:nvSpPr>
        <p:spPr>
          <a:xfrm>
            <a:off x="762120" y="23623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WordArt 21"/>
          <p:cNvSpPr txBox="1"/>
          <p:nvPr/>
        </p:nvSpPr>
        <p:spPr>
          <a:xfrm>
            <a:off x="2133720" y="380880"/>
            <a:ext cx="2286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WordArt 22"/>
          <p:cNvSpPr txBox="1"/>
          <p:nvPr/>
        </p:nvSpPr>
        <p:spPr>
          <a:xfrm>
            <a:off x="3657600" y="23623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WordArt 24"/>
          <p:cNvSpPr txBox="1"/>
          <p:nvPr/>
        </p:nvSpPr>
        <p:spPr>
          <a:xfrm>
            <a:off x="990720" y="2133720"/>
            <a:ext cx="759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4" name="WordArt 25"/>
          <p:cNvSpPr txBox="1"/>
          <p:nvPr/>
        </p:nvSpPr>
        <p:spPr>
          <a:xfrm>
            <a:off x="2209680" y="762120"/>
            <a:ext cx="13680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5" name="WordArt 26"/>
          <p:cNvSpPr txBox="1"/>
          <p:nvPr/>
        </p:nvSpPr>
        <p:spPr>
          <a:xfrm>
            <a:off x="3352680" y="2057400"/>
            <a:ext cx="10476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6" name="WordArt 27"/>
          <p:cNvSpPr txBox="1"/>
          <p:nvPr/>
        </p:nvSpPr>
        <p:spPr>
          <a:xfrm>
            <a:off x="2514600" y="762120"/>
            <a:ext cx="1047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47" name="WordArt 22"/>
          <p:cNvSpPr txBox="1"/>
          <p:nvPr/>
        </p:nvSpPr>
        <p:spPr>
          <a:xfrm>
            <a:off x="4191120" y="457200"/>
            <a:ext cx="304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8" name="Прямоугольник 13"/>
          <p:cNvSpPr/>
          <p:nvPr/>
        </p:nvSpPr>
        <p:spPr>
          <a:xfrm>
            <a:off x="4151160" y="0"/>
            <a:ext cx="5307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оказательство Евкл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 Black"/>
              </a:rPr>
              <a:t>С комментариями: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Найдите углы треугольников</a:t>
            </a:r>
            <a:endParaRPr b="1" lang="en-US" sz="32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250" name="Равнобедренный треугольник 3"/>
          <p:cNvSpPr/>
          <p:nvPr/>
        </p:nvSpPr>
        <p:spPr>
          <a:xfrm>
            <a:off x="714240" y="1928880"/>
            <a:ext cx="7358040" cy="3036960"/>
          </a:xfrm>
          <a:prstGeom prst="triangle">
            <a:avLst>
              <a:gd name="adj" fmla="val 90250"/>
            </a:avLst>
          </a:prstGeom>
          <a:solidFill>
            <a:srgbClr val="b83d68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357960" y="214308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0" y="435780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714680" y="42861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7143840" y="13572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-142920" y="4572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7858080" y="4572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857680" y="53578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=3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Группа 14"/>
          <p:cNvGrpSpPr/>
          <p:nvPr/>
        </p:nvGrpSpPr>
        <p:grpSpPr>
          <a:xfrm>
            <a:off x="3071880" y="5572080"/>
            <a:ext cx="428400" cy="285840"/>
            <a:chOff x="3071880" y="5572080"/>
            <a:chExt cx="428400" cy="285840"/>
          </a:xfrm>
        </p:grpSpPr>
        <p:sp>
          <p:nvSpPr>
            <p:cNvPr id="259" name="Прямая соединительная линия 11"/>
            <p:cNvSpPr/>
            <p:nvPr/>
          </p:nvSpPr>
          <p:spPr>
            <a:xfrm flipH="1">
              <a:off x="3071880" y="5572080"/>
              <a:ext cx="38088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3"/>
            <p:cNvSpPr/>
            <p:nvPr/>
          </p:nvSpPr>
          <p:spPr>
            <a:xfrm>
              <a:off x="3071880" y="5856840"/>
              <a:ext cx="4284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4"/>
          <p:cNvSpPr/>
          <p:nvPr/>
        </p:nvSpPr>
        <p:spPr>
          <a:xfrm>
            <a:off x="457200" y="533520"/>
            <a:ext cx="8305920" cy="571500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2809800" y="2514600"/>
            <a:ext cx="390600" cy="2253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5934240" y="2514600"/>
            <a:ext cx="390240" cy="22536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1066680" y="5224320"/>
            <a:ext cx="84960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5" name="WordArt 9"/>
          <p:cNvSpPr txBox="1"/>
          <p:nvPr/>
        </p:nvSpPr>
        <p:spPr>
          <a:xfrm>
            <a:off x="4191120" y="1143000"/>
            <a:ext cx="8492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495680" y="6095880"/>
            <a:ext cx="0" cy="38124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3733920" y="914400"/>
                <a:ext cx="16016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6"/>
              <p:cNvSpPr txBox="1"/>
              <p:nvPr/>
            </p:nvSpPr>
            <p:spPr>
              <a:xfrm>
                <a:off x="836640" y="5029200"/>
                <a:ext cx="16016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9" name="WordArt 18"/>
          <p:cNvSpPr txBox="1"/>
          <p:nvPr/>
        </p:nvSpPr>
        <p:spPr>
          <a:xfrm>
            <a:off x="7161120" y="5257800"/>
            <a:ext cx="8492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9"/>
              <p:cNvSpPr txBox="1"/>
              <p:nvPr/>
            </p:nvSpPr>
            <p:spPr>
              <a:xfrm>
                <a:off x="6703920" y="5029200"/>
                <a:ext cx="16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133720" y="380880"/>
            <a:ext cx="5638680" cy="5562720"/>
          </a:xfrm>
          <a:prstGeom prst="rtTriangle">
            <a:avLst/>
          </a:prstGeom>
          <a:solidFill>
            <a:srgbClr val="66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2133720" y="5486400"/>
            <a:ext cx="457200" cy="457200"/>
            <a:chOff x="2133720" y="5486400"/>
            <a:chExt cx="457200" cy="457200"/>
          </a:xfrm>
        </p:grpSpPr>
        <p:sp>
          <p:nvSpPr>
            <p:cNvPr id="273" name="Line 7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V="1">
              <a:off x="2590920" y="54864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2133720" y="1219320"/>
                <a:ext cx="125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WordArt 11"/>
          <p:cNvSpPr txBox="1"/>
          <p:nvPr/>
        </p:nvSpPr>
        <p:spPr>
          <a:xfrm>
            <a:off x="2209680" y="11430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7" name="WordArt 11"/>
          <p:cNvSpPr txBox="1"/>
          <p:nvPr/>
        </p:nvSpPr>
        <p:spPr>
          <a:xfrm>
            <a:off x="6248520" y="50292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905120" y="3352680"/>
            <a:ext cx="457200" cy="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 flipV="1">
            <a:off x="4419720" y="5715000"/>
            <a:ext cx="0" cy="4572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1"/>
              <p:cNvSpPr txBox="1"/>
              <p:nvPr/>
            </p:nvSpPr>
            <p:spPr>
              <a:xfrm>
                <a:off x="5715000" y="4952880"/>
                <a:ext cx="125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2133720" y="380880"/>
            <a:ext cx="5638680" cy="5562720"/>
          </a:xfrm>
          <a:prstGeom prst="rtTriangle">
            <a:avLst/>
          </a:prstGeom>
          <a:solidFill>
            <a:srgbClr val="66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9"/>
          <p:cNvGrpSpPr/>
          <p:nvPr/>
        </p:nvGrpSpPr>
        <p:grpSpPr>
          <a:xfrm>
            <a:off x="2133720" y="5486400"/>
            <a:ext cx="457200" cy="457200"/>
            <a:chOff x="2133720" y="5486400"/>
            <a:chExt cx="457200" cy="457200"/>
          </a:xfrm>
        </p:grpSpPr>
        <p:sp>
          <p:nvSpPr>
            <p:cNvPr id="283" name="Line 7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 flipV="1">
              <a:off x="2590920" y="54864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670720" y="4876920"/>
                <a:ext cx="118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2"/>
              <p:cNvSpPr txBox="1"/>
              <p:nvPr/>
            </p:nvSpPr>
            <p:spPr>
              <a:xfrm>
                <a:off x="2057400" y="1066680"/>
                <a:ext cx="125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WordArt 11"/>
          <p:cNvSpPr txBox="1"/>
          <p:nvPr/>
        </p:nvSpPr>
        <p:spPr>
          <a:xfrm>
            <a:off x="2209680" y="11430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4"/>
          <p:cNvSpPr/>
          <p:nvPr/>
        </p:nvSpPr>
        <p:spPr>
          <a:xfrm>
            <a:off x="1447920" y="533520"/>
            <a:ext cx="6476760" cy="57909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335268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>
            <a:off x="571464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7"/>
              <p:cNvSpPr txBox="1"/>
              <p:nvPr/>
            </p:nvSpPr>
            <p:spPr>
              <a:xfrm>
                <a:off x="4114800" y="1219320"/>
                <a:ext cx="118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WordArt 9"/>
          <p:cNvSpPr txBox="1"/>
          <p:nvPr/>
        </p:nvSpPr>
        <p:spPr>
          <a:xfrm>
            <a:off x="2057400" y="522432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6576840" y="522432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9"/>
              <p:cNvSpPr txBox="1"/>
              <p:nvPr/>
            </p:nvSpPr>
            <p:spPr>
              <a:xfrm>
                <a:off x="6326280" y="5181480"/>
                <a:ext cx="1185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0"/>
              <p:cNvSpPr txBox="1"/>
              <p:nvPr/>
            </p:nvSpPr>
            <p:spPr>
              <a:xfrm>
                <a:off x="1785960" y="5181480"/>
                <a:ext cx="11858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>
            <a:off x="1447920" y="533520"/>
            <a:ext cx="6476760" cy="579096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335268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 flipH="1">
            <a:off x="5714640" y="2514600"/>
            <a:ext cx="304920" cy="228600"/>
          </a:xfrm>
          <a:prstGeom prst="line">
            <a:avLst/>
          </a:prstGeom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6173640" y="5248440"/>
                <a:ext cx="1249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1951200" y="5248440"/>
                <a:ext cx="1249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WordArt 10"/>
          <p:cNvSpPr txBox="1"/>
          <p:nvPr/>
        </p:nvSpPr>
        <p:spPr>
          <a:xfrm>
            <a:off x="4367160" y="1143000"/>
            <a:ext cx="662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1"/>
              <p:cNvSpPr txBox="1"/>
              <p:nvPr/>
            </p:nvSpPr>
            <p:spPr>
              <a:xfrm>
                <a:off x="4038480" y="1143000"/>
                <a:ext cx="1249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28600" y="1066680"/>
            <a:ext cx="8839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ите треугольник АВС  на вашей кар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змерьте градусные меры  ˪А, ˪В, ˪С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ишите в тетрадь э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сумму углов А, В, 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делайте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Группа 25"/>
          <p:cNvGrpSpPr/>
          <p:nvPr/>
        </p:nvGrpSpPr>
        <p:grpSpPr>
          <a:xfrm>
            <a:off x="500040" y="344520"/>
            <a:ext cx="7643160" cy="5358240"/>
            <a:chOff x="500040" y="344520"/>
            <a:chExt cx="7643160" cy="5358240"/>
          </a:xfrm>
        </p:grpSpPr>
        <p:sp>
          <p:nvSpPr>
            <p:cNvPr id="304" name="TextBox 15"/>
            <p:cNvSpPr/>
            <p:nvPr/>
          </p:nvSpPr>
          <p:spPr>
            <a:xfrm>
              <a:off x="500040" y="34452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Группа 24"/>
            <p:cNvGrpSpPr/>
            <p:nvPr/>
          </p:nvGrpSpPr>
          <p:grpSpPr>
            <a:xfrm>
              <a:off x="500040" y="701640"/>
              <a:ext cx="7643160" cy="5001120"/>
              <a:chOff x="500040" y="701640"/>
              <a:chExt cx="7643160" cy="5001120"/>
            </a:xfrm>
          </p:grpSpPr>
          <p:grpSp>
            <p:nvGrpSpPr>
              <p:cNvPr id="306" name="Группа 11"/>
              <p:cNvGrpSpPr/>
              <p:nvPr/>
            </p:nvGrpSpPr>
            <p:grpSpPr>
              <a:xfrm>
                <a:off x="1285560" y="701640"/>
                <a:ext cx="6857640" cy="5001120"/>
                <a:chOff x="1285560" y="701640"/>
                <a:chExt cx="6857640" cy="5001120"/>
              </a:xfrm>
            </p:grpSpPr>
            <p:sp>
              <p:nvSpPr>
                <p:cNvPr id="307" name="Прямоугольный треугольник 1"/>
                <p:cNvSpPr/>
                <p:nvPr/>
              </p:nvSpPr>
              <p:spPr>
                <a:xfrm>
                  <a:off x="1285560" y="701640"/>
                  <a:ext cx="5361480" cy="4456800"/>
                </a:xfrm>
                <a:prstGeom prst="rtTriangle">
                  <a:avLst/>
                </a:prstGeom>
                <a:solidFill>
                  <a:srgbClr val="b83d68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Прямая соединительная линия 3"/>
                <p:cNvSpPr/>
                <p:nvPr/>
              </p:nvSpPr>
              <p:spPr>
                <a:xfrm>
                  <a:off x="6647400" y="5158080"/>
                  <a:ext cx="1495800" cy="2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Дуга 4"/>
                <p:cNvSpPr/>
                <p:nvPr/>
              </p:nvSpPr>
              <p:spPr>
                <a:xfrm>
                  <a:off x="5649840" y="4416840"/>
                  <a:ext cx="1994040" cy="1285920"/>
                </a:xfrm>
                <a:custGeom>
                  <a:avLst/>
                  <a:gdLst/>
                  <a:ahLst/>
                  <a:rect l="l" t="t" r="r" b="b"/>
                  <a:pathLst>
                    <a:path stroke="0" w="1142577" h="845043">
                      <a:moveTo>
                        <a:pt x="160998" y="128509"/>
                      </a:moveTo>
                      <a:cubicBezTo>
                        <a:pt x="303713" y="19570"/>
                        <a:pt x="514434" y="-24429"/>
                        <a:pt x="713108" y="13226"/>
                      </a:cubicBezTo>
                      <a:cubicBezTo>
                        <a:pt x="978524" y="63531"/>
                        <a:pt x="1158277" y="246118"/>
                        <a:pt x="1141507" y="448382"/>
                      </a:cubicBezTo>
                      <a:lnTo>
                        <a:pt x="571289" y="422522"/>
                      </a:lnTo>
                      <a:lnTo>
                        <a:pt x="160998" y="128509"/>
                      </a:lnTo>
                      <a:close/>
                    </a:path>
                    <a:path fill="none" w="1142577" h="845043">
                      <a:moveTo>
                        <a:pt x="160998" y="128509"/>
                      </a:moveTo>
                      <a:cubicBezTo>
                        <a:pt x="303713" y="19570"/>
                        <a:pt x="514434" y="-24429"/>
                        <a:pt x="713108" y="13226"/>
                      </a:cubicBezTo>
                      <a:cubicBezTo>
                        <a:pt x="978524" y="63531"/>
                        <a:pt x="1158277" y="246118"/>
                        <a:pt x="1141507" y="448382"/>
                      </a:cubicBezTo>
                    </a:path>
                  </a:pathLst>
                </a:custGeom>
                <a:solidFill>
                  <a:srgbClr val="b83d68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Прямая соединительная линия 6"/>
                <p:cNvSpPr/>
                <p:nvPr/>
              </p:nvSpPr>
              <p:spPr>
                <a:xfrm>
                  <a:off x="1285560" y="4615560"/>
                  <a:ext cx="49860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Прямая соединительная линия 8"/>
                <p:cNvSpPr/>
                <p:nvPr/>
              </p:nvSpPr>
              <p:spPr>
                <a:xfrm flipH="1">
                  <a:off x="1783800" y="4616640"/>
                  <a:ext cx="1080" cy="54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Box 10"/>
                <p:cNvSpPr/>
                <p:nvPr/>
              </p:nvSpPr>
              <p:spPr>
                <a:xfrm>
                  <a:off x="5183280" y="3637080"/>
                  <a:ext cx="2119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Times New Roman"/>
                    </a:rPr>
                    <a:t>130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Box 12"/>
              <p:cNvSpPr/>
              <p:nvPr/>
            </p:nvSpPr>
            <p:spPr>
              <a:xfrm>
                <a:off x="5143680" y="441648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3"/>
              <p:cNvSpPr/>
              <p:nvPr/>
            </p:nvSpPr>
            <p:spPr>
              <a:xfrm>
                <a:off x="1071360" y="98712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Box 14"/>
              <p:cNvSpPr/>
              <p:nvPr/>
            </p:nvSpPr>
            <p:spPr>
              <a:xfrm>
                <a:off x="500040" y="470232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Box 16"/>
              <p:cNvSpPr/>
              <p:nvPr/>
            </p:nvSpPr>
            <p:spPr>
              <a:xfrm>
                <a:off x="6215040" y="5059800"/>
                <a:ext cx="100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Группа 15"/>
          <p:cNvGrpSpPr/>
          <p:nvPr/>
        </p:nvGrpSpPr>
        <p:grpSpPr>
          <a:xfrm>
            <a:off x="2642760" y="5572080"/>
            <a:ext cx="429120" cy="285840"/>
            <a:chOff x="2642760" y="5572080"/>
            <a:chExt cx="429120" cy="285840"/>
          </a:xfrm>
        </p:grpSpPr>
        <p:sp>
          <p:nvSpPr>
            <p:cNvPr id="318" name="Прямая соединительная линия 16"/>
            <p:cNvSpPr/>
            <p:nvPr/>
          </p:nvSpPr>
          <p:spPr>
            <a:xfrm flipH="1">
              <a:off x="2642760" y="5572080"/>
              <a:ext cx="3812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ая соединительная линия 17"/>
            <p:cNvSpPr/>
            <p:nvPr/>
          </p:nvSpPr>
          <p:spPr>
            <a:xfrm>
              <a:off x="2643120" y="5856840"/>
              <a:ext cx="428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Прямоугольник 18"/>
          <p:cNvSpPr/>
          <p:nvPr/>
        </p:nvSpPr>
        <p:spPr>
          <a:xfrm>
            <a:off x="3079440" y="542916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=4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9"/>
          <p:cNvSpPr/>
          <p:nvPr/>
        </p:nvSpPr>
        <p:spPr>
          <a:xfrm>
            <a:off x="5436720" y="5429160"/>
            <a:ext cx="13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=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20"/>
          <p:cNvGrpSpPr/>
          <p:nvPr/>
        </p:nvGrpSpPr>
        <p:grpSpPr>
          <a:xfrm>
            <a:off x="4928760" y="5572080"/>
            <a:ext cx="429120" cy="285840"/>
            <a:chOff x="4928760" y="5572080"/>
            <a:chExt cx="429120" cy="285840"/>
          </a:xfrm>
        </p:grpSpPr>
        <p:sp>
          <p:nvSpPr>
            <p:cNvPr id="323" name="Прямая соединительная линия 21"/>
            <p:cNvSpPr/>
            <p:nvPr/>
          </p:nvSpPr>
          <p:spPr>
            <a:xfrm flipH="1">
              <a:off x="4928760" y="5572080"/>
              <a:ext cx="381240" cy="28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2"/>
            <p:cNvSpPr/>
            <p:nvPr/>
          </p:nvSpPr>
          <p:spPr>
            <a:xfrm>
              <a:off x="4929120" y="5856840"/>
              <a:ext cx="428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Arial Black"/>
              </a:rPr>
              <a:t>Ответы к тесту - достижений:</a:t>
            </a:r>
            <a:endParaRPr b="1" lang="en-US" sz="40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178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09720" y="1828800"/>
            <a:ext cx="302436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5000"/>
              </a:lnSpc>
              <a:spcBef>
                <a:spcPts val="601"/>
              </a:spcBef>
              <a:buClr>
                <a:srgbClr val="ffde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4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те тему урока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ом, если вам всё понятно, и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м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спытываете затруднения.</a:t>
            </a:r>
            <a:br>
              <a:rPr sz="4000"/>
            </a:br>
            <a:endParaRPr b="1" lang="en-US" sz="4400" spc="-1" strike="noStrike">
              <a:solidFill>
                <a:srgbClr val="b13f9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676520" y="304920"/>
            <a:ext cx="5790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50000">
                      <a:srgbClr val="000000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Arial"/>
              </a:rPr>
              <a:t>Не забудь!</a:t>
            </a:r>
            <a:endParaRPr b="0" lang="en-US" sz="1800" spc="1" strike="noStrike">
              <a:ln w="936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50000">
                    <a:srgbClr val="000000"/>
                  </a:gs>
                  <a:gs pos="100000">
                    <a:srgbClr val="d6009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914400" y="2438280"/>
            <a:ext cx="8077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.16,   №357,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 №359,3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ля любящих геометр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азать теорему о сумме углов треугольника, используя чертеж Евклида (отправлю в груп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8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13f9a"/>
                </a:solidFill>
                <a:latin typeface="Arial Black"/>
              </a:rPr>
              <a:t>СПАСИБО </a:t>
            </a:r>
            <a:endParaRPr b="1" lang="en-US" sz="5400" spc="-1" strike="noStrike">
              <a:solidFill>
                <a:srgbClr val="b13f9a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09120" y="32763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ЗА  СОТРУДНИЧЕСТВ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1455840" y="1143000"/>
            <a:ext cx="62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0" y="457200"/>
            <a:ext cx="809640" cy="6382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2305080" y="380880"/>
            <a:ext cx="43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ая рабо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6705720" y="419040"/>
            <a:ext cx="609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685800" y="1828800"/>
            <a:ext cx="3581280" cy="2666880"/>
          </a:xfrm>
          <a:prstGeom prst="triangle">
            <a:avLst>
              <a:gd name="adj" fmla="val 309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2004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76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648320" y="1905120"/>
            <a:ext cx="3581280" cy="2666880"/>
          </a:xfrm>
          <a:prstGeom prst="triangle">
            <a:avLst>
              <a:gd name="adj" fmla="val 30940"/>
            </a:avLst>
          </a:prstGeom>
          <a:solidFill>
            <a:srgbClr val="ff7c8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257800" y="3200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238880" y="403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876920" y="4038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63868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3"/>
          <p:cNvSpPr/>
          <p:nvPr/>
        </p:nvSpPr>
        <p:spPr>
          <a:xfrm flipH="1">
            <a:off x="2819160" y="3581280"/>
            <a:ext cx="609480" cy="91440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6"/>
          <p:cNvSpPr/>
          <p:nvPr/>
        </p:nvSpPr>
        <p:spPr>
          <a:xfrm>
            <a:off x="1143000" y="3352680"/>
            <a:ext cx="457200" cy="114300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800280" y="304920"/>
            <a:ext cx="6972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ьте углы треугольни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5257800" y="3200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6934320" y="3200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19"/>
          <p:cNvSpPr/>
          <p:nvPr/>
        </p:nvSpPr>
        <p:spPr>
          <a:xfrm>
            <a:off x="609480" y="4267080"/>
            <a:ext cx="38124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уга 20"/>
          <p:cNvSpPr/>
          <p:nvPr/>
        </p:nvSpPr>
        <p:spPr>
          <a:xfrm>
            <a:off x="4572000" y="4343400"/>
            <a:ext cx="38088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уга 21"/>
          <p:cNvSpPr/>
          <p:nvPr/>
        </p:nvSpPr>
        <p:spPr>
          <a:xfrm rot="7236600">
            <a:off x="5546520" y="1709280"/>
            <a:ext cx="38088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уга 22"/>
          <p:cNvSpPr/>
          <p:nvPr/>
        </p:nvSpPr>
        <p:spPr>
          <a:xfrm rot="7236600">
            <a:off x="1584000" y="1633320"/>
            <a:ext cx="381240" cy="533520"/>
          </a:xfrm>
          <a:custGeom>
            <a:avLst/>
            <a:gdLst/>
            <a:ahLst/>
            <a:rect l="l" t="t" r="r" b="b"/>
            <a:pathLst>
              <a:path stroke="0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  <a:lnTo>
                  <a:pt x="190500" y="266700"/>
                </a:lnTo>
                <a:lnTo>
                  <a:pt x="190500" y="0"/>
                </a:lnTo>
                <a:close/>
              </a:path>
              <a:path fill="none" w="381000" h="533400">
                <a:moveTo>
                  <a:pt x="190500" y="0"/>
                </a:moveTo>
                <a:cubicBezTo>
                  <a:pt x="283291" y="0"/>
                  <a:pt x="362583" y="93598"/>
                  <a:pt x="378261" y="2216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уга 23"/>
          <p:cNvSpPr/>
          <p:nvPr/>
        </p:nvSpPr>
        <p:spPr>
          <a:xfrm rot="7236600">
            <a:off x="1582920" y="1675080"/>
            <a:ext cx="527040" cy="614520"/>
          </a:xfrm>
          <a:custGeom>
            <a:avLst/>
            <a:gdLst/>
            <a:ahLst/>
            <a:rect l="l" t="t" r="r" b="b"/>
            <a:pathLst>
              <a:path stroke="0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  <a:lnTo>
                  <a:pt x="263525" y="307182"/>
                </a:lnTo>
                <a:lnTo>
                  <a:pt x="302928" y="3453"/>
                </a:lnTo>
                <a:close/>
              </a:path>
              <a:path fill="none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24"/>
          <p:cNvSpPr/>
          <p:nvPr/>
        </p:nvSpPr>
        <p:spPr>
          <a:xfrm rot="7236600">
            <a:off x="5545440" y="1675080"/>
            <a:ext cx="527040" cy="614520"/>
          </a:xfrm>
          <a:custGeom>
            <a:avLst/>
            <a:gdLst/>
            <a:ahLst/>
            <a:rect l="l" t="t" r="r" b="b"/>
            <a:pathLst>
              <a:path stroke="0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  <a:lnTo>
                  <a:pt x="263525" y="307182"/>
                </a:lnTo>
                <a:lnTo>
                  <a:pt x="302928" y="3453"/>
                </a:lnTo>
                <a:close/>
              </a:path>
              <a:path fill="none" w="527050" h="614363">
                <a:moveTo>
                  <a:pt x="302928" y="3453"/>
                </a:moveTo>
                <a:cubicBezTo>
                  <a:pt x="378070" y="16699"/>
                  <a:pt x="444648" y="67114"/>
                  <a:pt x="485574" y="141758"/>
                </a:cubicBezTo>
                <a:cubicBezTo>
                  <a:pt x="519386" y="203427"/>
                  <a:pt x="533197" y="277141"/>
                  <a:pt x="524522" y="34962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уга 25"/>
          <p:cNvSpPr/>
          <p:nvPr/>
        </p:nvSpPr>
        <p:spPr>
          <a:xfrm rot="13526400">
            <a:off x="7802280" y="4115880"/>
            <a:ext cx="460440" cy="574560"/>
          </a:xfrm>
          <a:custGeom>
            <a:avLst/>
            <a:gdLst/>
            <a:ahLst/>
            <a:rect l="l" t="t" r="r" b="b"/>
            <a:pathLst>
              <a:path stroke="0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  <a:lnTo>
                  <a:pt x="230188" y="287338"/>
                </a:lnTo>
                <a:lnTo>
                  <a:pt x="266985" y="3695"/>
                </a:lnTo>
                <a:close/>
              </a:path>
              <a:path fill="none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26"/>
          <p:cNvSpPr/>
          <p:nvPr/>
        </p:nvSpPr>
        <p:spPr>
          <a:xfrm rot="13526400">
            <a:off x="7916040" y="4200840"/>
            <a:ext cx="501480" cy="61416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  <a:lnTo>
                  <a:pt x="250825" y="307181"/>
                </a:lnTo>
                <a:lnTo>
                  <a:pt x="395884" y="56582"/>
                </a:lnTo>
                <a:close/>
              </a:path>
              <a:path fill="none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Дуга 27"/>
          <p:cNvSpPr/>
          <p:nvPr/>
        </p:nvSpPr>
        <p:spPr>
          <a:xfrm rot="13526400">
            <a:off x="7992000" y="4276800"/>
            <a:ext cx="501480" cy="61452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  <a:lnTo>
                  <a:pt x="250825" y="307181"/>
                </a:lnTo>
                <a:lnTo>
                  <a:pt x="436402" y="100524"/>
                </a:lnTo>
                <a:close/>
              </a:path>
              <a:path fill="none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Дуга 28"/>
          <p:cNvSpPr/>
          <p:nvPr/>
        </p:nvSpPr>
        <p:spPr>
          <a:xfrm rot="13526400">
            <a:off x="4029840" y="4200840"/>
            <a:ext cx="501480" cy="61416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  <a:lnTo>
                  <a:pt x="250825" y="307181"/>
                </a:lnTo>
                <a:lnTo>
                  <a:pt x="436402" y="100524"/>
                </a:lnTo>
                <a:close/>
              </a:path>
              <a:path fill="none" w="501650" h="614362">
                <a:moveTo>
                  <a:pt x="436402" y="100524"/>
                </a:moveTo>
                <a:cubicBezTo>
                  <a:pt x="482631" y="162788"/>
                  <a:pt x="505977" y="245554"/>
                  <a:pt x="500987" y="32948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Дуга 29"/>
          <p:cNvSpPr/>
          <p:nvPr/>
        </p:nvSpPr>
        <p:spPr>
          <a:xfrm rot="13526400">
            <a:off x="3953160" y="4124880"/>
            <a:ext cx="501840" cy="614160"/>
          </a:xfrm>
          <a:custGeom>
            <a:avLst/>
            <a:gdLst/>
            <a:ahLst/>
            <a:rect l="l" t="t" r="r" b="b"/>
            <a:pathLst>
              <a:path stroke="0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  <a:lnTo>
                  <a:pt x="250825" y="307181"/>
                </a:lnTo>
                <a:lnTo>
                  <a:pt x="395884" y="56582"/>
                </a:lnTo>
                <a:close/>
              </a:path>
              <a:path fill="none" w="501650" h="614362">
                <a:moveTo>
                  <a:pt x="395884" y="56582"/>
                </a:moveTo>
                <a:cubicBezTo>
                  <a:pt x="461572" y="113612"/>
                  <a:pt x="500911" y="205795"/>
                  <a:pt x="501639" y="30440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Дуга 30"/>
          <p:cNvSpPr/>
          <p:nvPr/>
        </p:nvSpPr>
        <p:spPr>
          <a:xfrm rot="13526400">
            <a:off x="3868560" y="4039560"/>
            <a:ext cx="460440" cy="574560"/>
          </a:xfrm>
          <a:custGeom>
            <a:avLst/>
            <a:gdLst/>
            <a:ahLst/>
            <a:rect l="l" t="t" r="r" b="b"/>
            <a:pathLst>
              <a:path stroke="0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  <a:lnTo>
                  <a:pt x="230188" y="287338"/>
                </a:lnTo>
                <a:lnTo>
                  <a:pt x="266985" y="3695"/>
                </a:lnTo>
                <a:close/>
              </a:path>
              <a:path fill="none" w="460375" h="574675">
                <a:moveTo>
                  <a:pt x="266985" y="3695"/>
                </a:moveTo>
                <a:cubicBezTo>
                  <a:pt x="334113" y="17265"/>
                  <a:pt x="392999" y="67191"/>
                  <a:pt x="427849" y="140082"/>
                </a:cubicBezTo>
                <a:cubicBezTo>
                  <a:pt x="454348" y="195507"/>
                  <a:pt x="465126" y="260454"/>
                  <a:pt x="458446" y="3244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3"/>
          <p:cNvGrpSpPr/>
          <p:nvPr/>
        </p:nvGrpSpPr>
        <p:grpSpPr>
          <a:xfrm>
            <a:off x="969480" y="1295280"/>
            <a:ext cx="3068640" cy="3285360"/>
            <a:chOff x="969480" y="1295280"/>
            <a:chExt cx="3068640" cy="3285360"/>
          </a:xfrm>
        </p:grpSpPr>
        <p:grpSp>
          <p:nvGrpSpPr>
            <p:cNvPr id="138" name="Group 24"/>
            <p:cNvGrpSpPr/>
            <p:nvPr/>
          </p:nvGrpSpPr>
          <p:grpSpPr>
            <a:xfrm>
              <a:off x="1123200" y="1482840"/>
              <a:ext cx="2899080" cy="3097800"/>
              <a:chOff x="1123200" y="1482840"/>
              <a:chExt cx="2899080" cy="3097800"/>
            </a:xfrm>
          </p:grpSpPr>
          <p:sp>
            <p:nvSpPr>
              <p:cNvPr id="139" name="AutoShape 2"/>
              <p:cNvSpPr/>
              <p:nvPr/>
            </p:nvSpPr>
            <p:spPr>
              <a:xfrm>
                <a:off x="1123200" y="1482840"/>
                <a:ext cx="2899080" cy="2035800"/>
              </a:xfrm>
              <a:prstGeom prst="triangle">
                <a:avLst>
                  <a:gd name="adj" fmla="val 31722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23"/>
              <p:cNvSpPr/>
              <p:nvPr/>
            </p:nvSpPr>
            <p:spPr>
              <a:xfrm>
                <a:off x="1123200" y="3518640"/>
                <a:ext cx="2899080" cy="1062000"/>
              </a:xfrm>
              <a:custGeom>
                <a:avLst/>
                <a:gdLst>
                  <a:gd name="textAreaLeft" fmla="*/ 603720 w 2899080"/>
                  <a:gd name="textAreaRight" fmla="*/ 2295360 w 2899080"/>
                  <a:gd name="textAreaTop" fmla="*/ 221040 h 1062000"/>
                  <a:gd name="textAreaBottom" fmla="*/ 840960 h 10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AutoShape 30"/>
            <p:cNvSpPr/>
            <p:nvPr/>
          </p:nvSpPr>
          <p:spPr>
            <a:xfrm flipH="1" rot="10623600">
              <a:off x="989640" y="1471680"/>
              <a:ext cx="2246760" cy="8575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 flipH="1">
              <a:off x="1142280" y="1461240"/>
              <a:ext cx="970200" cy="20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2056680" y="1448280"/>
              <a:ext cx="1981440" cy="205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206440" y="129528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1925640" y="163800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"/>
            <p:cNvSpPr/>
            <p:nvPr/>
          </p:nvSpPr>
          <p:spPr>
            <a:xfrm>
              <a:off x="1598760" y="1372320"/>
              <a:ext cx="6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3"/>
          <p:cNvSpPr/>
          <p:nvPr/>
        </p:nvSpPr>
        <p:spPr>
          <a:xfrm>
            <a:off x="4876920" y="1600200"/>
            <a:ext cx="3124080" cy="2819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 flipH="1">
            <a:off x="6019560" y="1600200"/>
            <a:ext cx="198108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952880" y="1600200"/>
            <a:ext cx="106704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40080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86728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10080" y="38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0"/>
          <p:cNvSpPr/>
          <p:nvPr/>
        </p:nvSpPr>
        <p:spPr>
          <a:xfrm flipH="1">
            <a:off x="3276720" y="3505320"/>
            <a:ext cx="761760" cy="106668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3"/>
          <p:cNvSpPr/>
          <p:nvPr/>
        </p:nvSpPr>
        <p:spPr>
          <a:xfrm>
            <a:off x="1122480" y="3519360"/>
            <a:ext cx="706320" cy="1052640"/>
          </a:xfrm>
          <a:prstGeom prst="line">
            <a:avLst/>
          </a:prstGeom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94872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ая соединительная линия 2"/>
          <p:cNvSpPr/>
          <p:nvPr/>
        </p:nvSpPr>
        <p:spPr>
          <a:xfrm>
            <a:off x="914400" y="2895480"/>
            <a:ext cx="3505320" cy="533520"/>
          </a:xfrm>
          <a:prstGeom prst="line">
            <a:avLst/>
          </a:prstGeom>
          <a:ln w="3168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5"/>
          <p:cNvSpPr/>
          <p:nvPr/>
        </p:nvSpPr>
        <p:spPr>
          <a:xfrm flipV="1">
            <a:off x="2743200" y="3428640"/>
            <a:ext cx="1676520" cy="152280"/>
          </a:xfrm>
          <a:prstGeom prst="line">
            <a:avLst/>
          </a:prstGeom>
          <a:ln w="3168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8"/>
          <p:cNvSpPr/>
          <p:nvPr/>
        </p:nvSpPr>
        <p:spPr>
          <a:xfrm>
            <a:off x="914400" y="2895480"/>
            <a:ext cx="1828800" cy="685800"/>
          </a:xfrm>
          <a:prstGeom prst="line">
            <a:avLst/>
          </a:prstGeom>
          <a:ln w="3168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2514600" y="34290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4267080" y="327672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685800" y="266688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685800" y="243828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онная физминутк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83d6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88" name="прин1843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3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3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2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91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200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221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2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24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45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3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2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gallery_2_392_1290"/>
          <p:cNvPicPr/>
          <p:nvPr/>
        </p:nvPicPr>
        <p:blipFill>
          <a:blip r:embed="rId1"/>
          <a:stretch/>
        </p:blipFill>
        <p:spPr>
          <a:xfrm>
            <a:off x="3348000" y="4292640"/>
            <a:ext cx="252108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maz-2017</dc:creator>
  <dc:description/>
  <dc:language>en-US</dc:language>
  <cp:lastModifiedBy>almaz-2017</cp:lastModifiedBy>
  <dcterms:modified xsi:type="dcterms:W3CDTF">2023-11-23T15:54:27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